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EAA-6A9C-4A2F-9654-8C5BB1A0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AC5-5099-447E-98A9-0C8226B5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D64-067A-4664-8FD6-90FCD101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FBE-81F5-45CB-AB89-627E9290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348-82E4-4CBB-BC7B-843DAF9B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35F-C00C-478F-A0FF-353CC5F3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683-250D-4C77-B1D8-AA43F2E1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4A5-AE64-40D9-9228-D1DB3734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82A-0FBF-4F2E-AF0F-3BF82381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A0D-C379-405D-B3B4-13D42C22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CFC-BEA8-4EB5-8A0D-FBB2DB9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D69-B45A-4135-BEAE-9B4CCF26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2FC8-705E-4B35-87ED-AFCC654928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metrij.ru/post107611754" TargetMode="External"/><Relationship Id="rId3" Type="http://schemas.openxmlformats.org/officeDocument/2006/relationships/hyperlink" Target="http://demetrij.ru/post107611754" TargetMode="External"/><Relationship Id="rId4" Type="http://schemas.openxmlformats.org/officeDocument/2006/relationships/hyperlink" Target="http://demetrij.ru/post107611754" TargetMode="External"/><Relationship Id="rId5" Type="http://schemas.openxmlformats.org/officeDocument/2006/relationships/hyperlink" Target="http://demetrij.ru/post107611754" TargetMode="External"/><Relationship Id="rId6" Type="http://schemas.openxmlformats.org/officeDocument/2006/relationships/hyperlink" Target="http://www.rulez-t.info/foto_pics/7878-japonskie-doma-14-foto.html" TargetMode="External"/><Relationship Id="rId7" Type="http://schemas.openxmlformats.org/officeDocument/2006/relationships/hyperlink" Target="http://www.rulez-t.info/foto_pics/7878-japonskie-doma-14-foto.html" TargetMode="External"/><Relationship Id="rId8" Type="http://schemas.openxmlformats.org/officeDocument/2006/relationships/hyperlink" Target="http://www.rulez-t.info/foto_pics/7878-japonskie-doma-14-foto.html" TargetMode="External"/><Relationship Id="rId9" Type="http://schemas.openxmlformats.org/officeDocument/2006/relationships/hyperlink" Target="http://www.rulez-t.info/foto_pics/7878-japonskie-doma-14-foto.html" TargetMode="External"/><Relationship Id="rId10" Type="http://schemas.openxmlformats.org/officeDocument/2006/relationships/hyperlink" Target="http://www.rulez-t.info/foto_pics/7878-japonskie-doma-14-foto.html" TargetMode="External"/><Relationship Id="rId11" Type="http://schemas.openxmlformats.org/officeDocument/2006/relationships/hyperlink" Target="http://www.rulez-t.info/foto_pics/7878-japonskie-doma-14-foto.html" TargetMode="External"/><Relationship Id="rId12" Type="http://schemas.openxmlformats.org/officeDocument/2006/relationships/hyperlink" Target="http://yaponika.com/khokku/base" TargetMode="External"/><Relationship Id="rId13" Type="http://schemas.openxmlformats.org/officeDocument/2006/relationships/hyperlink" Target="http://yaponika.com/khokku/base" TargetMode="External"/><Relationship Id="rId14" Type="http://schemas.openxmlformats.org/officeDocument/2006/relationships/hyperlink" Target="http://yaponika.com/khokku/base" TargetMode="External"/><Relationship Id="rId15" Type="http://schemas.openxmlformats.org/officeDocument/2006/relationships/hyperlink" Target="http://yaponika.com/khokku/base" TargetMode="External"/><Relationship Id="rId16" Type="http://schemas.openxmlformats.org/officeDocument/2006/relationships/hyperlink" Target="http://yaponika.com/khokku/base" TargetMode="External"/><Relationship Id="rId17" Type="http://schemas.openxmlformats.org/officeDocument/2006/relationships/hyperlink" Target="http://yaponika.com/khokku/base" TargetMode="External"/><Relationship Id="rId18" Type="http://schemas.openxmlformats.org/officeDocument/2006/relationships/hyperlink" Target="http://yaponika.com/khokku/base" TargetMode="External"/><Relationship Id="rId19" Type="http://schemas.openxmlformats.org/officeDocument/2006/relationships/hyperlink" Target="http://subscribe.ru/archive/culture.arch.arttrening/200905/09111405.html" TargetMode="External"/><Relationship Id="rId20" Type="http://schemas.openxmlformats.org/officeDocument/2006/relationships/hyperlink" Target="http://subscribe.ru/archive/culture.arch.arttrening/200905/09111405.html" TargetMode="External"/><Relationship Id="rId21" Type="http://schemas.openxmlformats.org/officeDocument/2006/relationships/hyperlink" Target="http://festival.1september.ru/articles/538567/http://my-shop.ru/shop/books/417166.html" TargetMode="External"/><Relationship Id="rId22" Type="http://schemas.openxmlformats.org/officeDocument/2006/relationships/hyperlink" Target="http://okian.ru/site/emotionoko/hokku/index.html" TargetMode="External"/><Relationship Id="rId23" Type="http://schemas.openxmlformats.org/officeDocument/2006/relationships/hyperlink" Target="http://www.lu-mon.ru/gallery?category=73" TargetMode="External"/><Relationship Id="rId24" Type="http://schemas.openxmlformats.org/officeDocument/2006/relationships/hyperlink" Target="http://www.lu-mon.ru/gallery?category=73" TargetMode="External"/><Relationship Id="rId25" Type="http://schemas.openxmlformats.org/officeDocument/2006/relationships/hyperlink" Target="http://www.lu-mon.ru/gallery?category=73" TargetMode="External"/><Relationship Id="rId26" Type="http://schemas.openxmlformats.org/officeDocument/2006/relationships/hyperlink" Target="http://www.lu-mon.ru/gallery?category=73" TargetMode="External"/><Relationship Id="rId27" Type="http://schemas.openxmlformats.org/officeDocument/2006/relationships/hyperlink" Target="http://my-shop.ru/shop/books/417166.html" TargetMode="External"/><Relationship Id="rId28" Type="http://schemas.openxmlformats.org/officeDocument/2006/relationships/hyperlink" Target="http://my-shop.ru/shop/books/417166.html" TargetMode="External"/><Relationship Id="rId29" Type="http://schemas.openxmlformats.org/officeDocument/2006/relationships/hyperlink" Target="http://my-shop.ru/shop/books/417166.html" TargetMode="External"/><Relationship Id="rId30" Type="http://schemas.openxmlformats.org/officeDocument/2006/relationships/hyperlink" Target="http://my-shop.ru/shop/books/417166.html" TargetMode="External"/><Relationship Id="rId31" Type="http://schemas.openxmlformats.org/officeDocument/2006/relationships/hyperlink" Target="http://my-shop.ru/shop/books/417166.html" TargetMode="External"/><Relationship Id="rId32" Type="http://schemas.openxmlformats.org/officeDocument/2006/relationships/hyperlink" Target="http://my-shop.ru/shop/books/417166.html" TargetMode="External"/><Relationship Id="rId33" Type="http://schemas.openxmlformats.org/officeDocument/2006/relationships/hyperlink" Target="http://my-shop.ru/shop/books/417166.html" TargetMode="External"/><Relationship Id="rId34" Type="http://schemas.openxmlformats.org/officeDocument/2006/relationships/hyperlink" Target="http://my-shop.ru/shop/books/417166.html" TargetMode="External"/><Relationship Id="rId3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360" y="2130120"/>
            <a:ext cx="403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388620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83664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620640"/>
            <a:ext cx="6266160" cy="52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ston"/>
              </a:rPr>
              <a:t>В гостях у вишнёвых цветов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ston"/>
              </a:rPr>
              <a:t>(Японские трёхстишия – хокку.        7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5013360"/>
            <a:ext cx="5473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Автор работы: Шершнёва Елена Михайловна, учит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русского языка и литературы 1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МОУ «Каськов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Куньинского района Пск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Великие Мастера Хок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амым известным и любимым поэтом японцы считают Мацуо Басё (1644 – 1694гг.). Его стихи по прошествии трёх веков знает наизусть каждый культурный япон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Богатое поэтическое наследие оставил Кобаяси Исса (1763 – 1827гг.): более шести тысяч хокку, дневники, шуточные сти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08000" y="1484280"/>
            <a:ext cx="1224000" cy="2449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796000" y="1413000"/>
            <a:ext cx="15447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Посоревнуемся с поэт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данные трёхстишия подставьте подходящие по смыслу пропущенные слова и выражения, обоснуйте своё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Цветы ув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ыплются, падают сем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Как будто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……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gt;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ихая лунная н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лышно, как в глубине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…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gt;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……………….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 ветки на в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ихо сбегают кап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…………………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3272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пишите в хокку, что видели, что слышали , что пережили в апр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чебник. Литература. 7 класс. Авт.-сост. В.Я. Коровина.- ч.2. – стр. 235 – 23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После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«Каждое живое существо слагает свои песни… И именно это приводит в движение небо и Землю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Бас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тература. 7кл. Учебн. для общеобразоват. учреждений. В 2ч. Ч 2 / Авт.-сост. В.Я. Коровина. – 17-е изд. – М.: просвещение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ки литературы. №2 – 2010 / приложение к журналу «Литература в школе». – стр. 4 – 12.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ы уроков Дюжева О.А., преподаватель кафедры общей педагогики Шуйского ГПУ, Былкова Т.Н., учитель средней школы №13 г. Ч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metrij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post1076117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стю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rulez-t.info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to_pic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7878-japonskie-doma-14-foto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yaponika.co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khokk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ba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с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://subscribe.ru/archive/culture.arch.arttrening/200905/09111405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ак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festival.1september.ru/articles/538567/http://my-shop.ru/shop/books/417166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алгорит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okian.ru/site/emotionoko/hokku/index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ш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lu-mon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gallery?category=7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лл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my-shop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sho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book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417166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кни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ull-house.ru/detail.php?id=6736 фон 1 слай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oshoworld.ru/gallery/Fotoalbomy/Novoe_tysyacheletie_Osho_sanyasy_/Osho_sanyasa_v_Rossii_/  колл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sunhome.ru/tags/хокку         http://www.art-kb.org/demo.htm       японский рестор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rum.glavred.info/viewtopic.php?p=137184 оболь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Сегодня на уроке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заочно познакомимся с японской  национальной культур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знаем о японских лирических стихотворениях –хокку и поэтах Мацуо Басё, Кобояси И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Будем развивать свои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51280" y="3645000"/>
            <a:ext cx="136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Страна восходящего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1960" y="1600200"/>
            <a:ext cx="328932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2720" y="1600200"/>
            <a:ext cx="3289320" cy="218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3938760"/>
            <a:ext cx="79930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 легенде Япония образовалась из  вереницы капель,  скатившихся с богатырского копья бога Изанаги, отделившего земную твердь от морской хляби. Изогнутая цепь островов действительно напоминает застывшие кап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Традиции Япо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393840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Японский дом не имеет ни дверей, ни окон в нашем понимании. Три стены из четырёх можно всегда раздвинуть или совсем снять. Исчезли перегородчатые створки – и «природа вошла в дом», и ты оказываешься в своеобразной беседке и любуешься старым камнем, поросшим мхом, соловьём на ветк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55640" y="1600200"/>
            <a:ext cx="2052720" cy="233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Национальный 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еобычно восприятие мира и человека в этом мире в понимании японцев. Японцы заботятся о чувстве собственного достоинства даже незнакомого им человека, с особым уважением относятся к старшим, даже если они неправы, внимательны к окружающей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1458720" cy="218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96000" y="1557360"/>
            <a:ext cx="21258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58920" y="1557360"/>
            <a:ext cx="1873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Национальные праздники д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938760"/>
            <a:ext cx="8435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Японцы считают, что любоваться поэтическими явлениями природы лучше всей семьей, целым городом. Зимой прекрасен первый снег, весной принято любоваться цветением сливы, вишни,   осенью – огненно-красной листвой горных клёнов. Японцы по-настоящему поклоняются красо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025960" y="1600200"/>
            <a:ext cx="32828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Хокку – лирические трёхстиш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25560" y="1600200"/>
            <a:ext cx="310032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268960" y="1600200"/>
            <a:ext cx="279720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32040" y="3938760"/>
            <a:ext cx="308916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580000" y="3938760"/>
            <a:ext cx="2173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Хок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Прозвучали необычные для нас сти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Чем они необыч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О чём вы думали, когда слушали эти стих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Какие картины появились в вашем вообра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280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Всматривайтесь в малое – и вы увидите велико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1557360"/>
            <a:ext cx="345600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3716280"/>
            <a:ext cx="194472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3860640"/>
            <a:ext cx="1513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3789360"/>
            <a:ext cx="230508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1700280"/>
            <a:ext cx="28800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Уродливый ворон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и он прекрасен на первом сне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в зимнее утро!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Бас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3789360"/>
            <a:ext cx="13669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Япония. Хок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(хайку) Басё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И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Икеб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400536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5+7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6+10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4076640"/>
            <a:ext cx="1800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Природ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худож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поэ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050560" y="3141720"/>
            <a:ext cx="108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0920" y="2997360"/>
            <a:ext cx="936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27280" y="350028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2997360"/>
            <a:ext cx="1296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141720"/>
            <a:ext cx="14414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5157720"/>
            <a:ext cx="2592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Уж тает снег, бегут ручь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В окно повеяло вено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А. Плещее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157720"/>
            <a:ext cx="2521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Лёд растаял в пруд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И снова зажили друж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Вода с водо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Бас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5640" y="5589720"/>
            <a:ext cx="1008000" cy="215640"/>
          </a:xfrm>
          <a:prstGeom prst="leftRightArrow">
            <a:avLst>
              <a:gd name="adj1" fmla="val 50000"/>
              <a:gd name="adj2" fmla="val 930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7:49:41Z</dcterms:created>
  <dc:creator>1</dc:creator>
  <dc:description/>
  <dc:language>en-US</dc:language>
  <cp:lastModifiedBy>1</cp:lastModifiedBy>
  <dcterms:modified xsi:type="dcterms:W3CDTF">2011-02-24T17:52:24Z</dcterms:modified>
  <cp:revision>50</cp:revision>
  <dc:subject/>
  <dc:title>Слайд 1</dc:title>
</cp:coreProperties>
</file>