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5A2EB-BB9A-4595-B975-49BE3DC39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63640" y="274320"/>
            <a:ext cx="71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63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63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CF469-4CD3-468E-B34B-238452689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63640" y="274320"/>
            <a:ext cx="71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724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243040" y="1600200"/>
            <a:ext cx="3724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724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243040" y="3964320"/>
            <a:ext cx="3724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F0308-2C58-4A9E-9D25-5448100D8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63640" y="274320"/>
            <a:ext cx="71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457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912480" y="1600200"/>
            <a:ext cx="2457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93320" y="1600200"/>
            <a:ext cx="2457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457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912480" y="3964320"/>
            <a:ext cx="2457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93320" y="3964320"/>
            <a:ext cx="2457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66F29-F2D8-4D23-A85D-F8DFA919B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C185B-43C6-40C3-828B-1872A5D5D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63640" y="274320"/>
            <a:ext cx="71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632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BC2AF-1ED6-4515-9087-71115972F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63640" y="274320"/>
            <a:ext cx="71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632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4D33C-0160-4285-B9E2-DDAE5D61B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63640" y="274320"/>
            <a:ext cx="71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724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243040" y="1600200"/>
            <a:ext cx="3724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0D8DA-6223-4506-96A9-6A16CC9DB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63640" y="274320"/>
            <a:ext cx="71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6EECE-6337-4058-80D3-03A7FE6F0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763640" y="274320"/>
            <a:ext cx="71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7F5CD-0245-415C-A962-571A1F7A3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63640" y="274320"/>
            <a:ext cx="71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724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43040" y="1600200"/>
            <a:ext cx="3724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724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1F5D7-B475-4C53-8FFC-2AEF0B1EB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63640" y="274320"/>
            <a:ext cx="71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632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33673-9BF5-4266-9B4B-3C25D0FDC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763640" y="274320"/>
            <a:ext cx="71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724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243040" y="1600200"/>
            <a:ext cx="3724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243040" y="3964320"/>
            <a:ext cx="3724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700CC-F9E1-451A-BBF5-ABCDC723C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63640" y="274320"/>
            <a:ext cx="71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724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243040" y="1600200"/>
            <a:ext cx="3724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63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67C7A-E051-4BDB-A6B9-A83F52222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63640" y="274320"/>
            <a:ext cx="71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63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63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F7179-9CE7-402E-9E11-50FE917A0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63640" y="274320"/>
            <a:ext cx="71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724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43040" y="1600200"/>
            <a:ext cx="3724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724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243040" y="3964320"/>
            <a:ext cx="3724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83643-B6F7-480D-AFD2-A16C1F35E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763640" y="274320"/>
            <a:ext cx="71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457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912480" y="1600200"/>
            <a:ext cx="2457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493320" y="1600200"/>
            <a:ext cx="2457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457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912480" y="3964320"/>
            <a:ext cx="2457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493320" y="3964320"/>
            <a:ext cx="2457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CEF6A-CFFF-4841-A1E8-DDF6E2BD4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63640" y="274320"/>
            <a:ext cx="71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632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3287E-56BF-4B5C-B4CA-CD27C55C5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63640" y="274320"/>
            <a:ext cx="71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724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243040" y="1600200"/>
            <a:ext cx="3724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BA359-97E4-4B93-B221-937B0266B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63640" y="274320"/>
            <a:ext cx="71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013DD-4BAA-4615-AE91-201AE9847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63640" y="274320"/>
            <a:ext cx="71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EC33D-FA69-468C-89D9-E69BA43F7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63640" y="274320"/>
            <a:ext cx="71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724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43040" y="1600200"/>
            <a:ext cx="3724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724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8B11C-D707-41AF-A781-CE39DC6EC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63640" y="274320"/>
            <a:ext cx="71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724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243040" y="1600200"/>
            <a:ext cx="3724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243040" y="3964320"/>
            <a:ext cx="3724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581D6-41B3-4A6B-8D1B-C5B8EE3FE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63640" y="274320"/>
            <a:ext cx="71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724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43040" y="1600200"/>
            <a:ext cx="3724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63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985BF-E345-48F1-8DD3-AE860FFE2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65_5187"/>
          <p:cNvPicPr/>
          <p:nvPr/>
        </p:nvPicPr>
        <p:blipFill>
          <a:blip r:embed="rId3"/>
          <a:stretch/>
        </p:blipFill>
        <p:spPr>
          <a:xfrm>
            <a:off x="-36360" y="0"/>
            <a:ext cx="148716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1547280" y="6237000"/>
            <a:ext cx="242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4140000" y="623700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3"/>
          </p:nvPr>
        </p:nvSpPr>
        <p:spPr>
          <a:xfrm>
            <a:off x="7380000" y="6244920"/>
            <a:ext cx="130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115DF-D22D-482B-8529-CF3314B54E3A}" type="slidenum">
              <a:rPr b="0" lang="ru-RU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1763640" y="274320"/>
            <a:ext cx="7129440" cy="1143000"/>
          </a:xfrm>
          <a:prstGeom prst="rect">
            <a:avLst/>
          </a:prstGeom>
          <a:solidFill>
            <a:srgbClr val="ffffff">
              <a:alpha val="90000"/>
            </a:srgbClr>
          </a:solidFill>
          <a:ln w="1908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330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5" name="Freeform 11"/>
          <p:cNvSpPr/>
          <p:nvPr/>
        </p:nvSpPr>
        <p:spPr>
          <a:xfrm>
            <a:off x="971640" y="-230040"/>
            <a:ext cx="1008000" cy="7316640"/>
          </a:xfrm>
          <a:custGeom>
            <a:avLst/>
            <a:gdLst/>
            <a:ahLst/>
            <a:rect l="l" t="t" r="r" b="b"/>
            <a:pathLst>
              <a:path w="635" h="4672">
                <a:moveTo>
                  <a:pt x="317" y="159"/>
                </a:moveTo>
                <a:cubicBezTo>
                  <a:pt x="211" y="318"/>
                  <a:pt x="0" y="1928"/>
                  <a:pt x="0" y="2654"/>
                </a:cubicBezTo>
                <a:cubicBezTo>
                  <a:pt x="0" y="3380"/>
                  <a:pt x="211" y="4672"/>
                  <a:pt x="317" y="4513"/>
                </a:cubicBezTo>
                <a:cubicBezTo>
                  <a:pt x="423" y="4354"/>
                  <a:pt x="635" y="2427"/>
                  <a:pt x="635" y="1701"/>
                </a:cubicBezTo>
                <a:cubicBezTo>
                  <a:pt x="635" y="975"/>
                  <a:pt x="423" y="0"/>
                  <a:pt x="317" y="159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632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7" descr="4c8aa36f7131"/>
          <p:cNvPicPr/>
          <p:nvPr/>
        </p:nvPicPr>
        <p:blipFill>
          <a:blip r:embed="rId3"/>
          <a:stretch/>
        </p:blipFill>
        <p:spPr>
          <a:xfrm>
            <a:off x="2411280" y="1989000"/>
            <a:ext cx="4235760" cy="36007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63640" y="274320"/>
            <a:ext cx="7129440" cy="1143000"/>
          </a:xfrm>
          <a:prstGeom prst="rect">
            <a:avLst/>
          </a:prstGeom>
          <a:solidFill>
            <a:srgbClr val="ffffff">
              <a:alpha val="90000"/>
            </a:srgbClr>
          </a:solidFill>
          <a:ln w="1908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330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632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29DC6-1310-4AC6-AF79-B55EBB14B370}" type="slidenum">
              <a:rPr b="0" lang="ru-RU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/Rar$DI14.218/&#1048;.%20&#1055;&#1091;&#1097;&#1080;&#1085;.doc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file:///Rar$DI14.218/&#1076;&#1091;&#1096;&#1072;%20&#1084;&#1086;&#1103;%20&#1087;&#1086;&#1083;&#1085;&#1072;%20&#1090;&#1086;&#1073;&#1086;&#1081;....doc" TargetMode="Externa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rus-shake.ru/menu/news/6579.html" TargetMode="External"/><Relationship Id="rId2" Type="http://schemas.openxmlformats.org/officeDocument/2006/relationships/hyperlink" Target="http://school4-perm.narod.ru/dl.htm" TargetMode="External"/><Relationship Id="rId3" Type="http://schemas.openxmlformats.org/officeDocument/2006/relationships/hyperlink" Target="http://fio.ifmo.ru/archive/group35/c3wu7/PAGE3.htm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aphorisme.ru/by-authors/pushkin/?q=578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fio.ifmo.ru/archive/group35/c3wu7/PAGE3.htm" TargetMode="Externa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3300"/>
                </a:solidFill>
                <a:latin typeface="Calibri"/>
              </a:rPr>
              <a:t>Мой первый друг…</a:t>
            </a:r>
            <a:endParaRPr b="1" lang="en-US" sz="44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4716360" y="4508640"/>
            <a:ext cx="431964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Шершнёва Елена Михайл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У»Каськовская ОО школ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уньинский район Псковская обла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 русского языка и литерату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012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763640" y="274320"/>
            <a:ext cx="7129440" cy="1143000"/>
          </a:xfrm>
          <a:prstGeom prst="rect">
            <a:avLst/>
          </a:prstGeom>
          <a:solidFill>
            <a:srgbClr val="ffffff">
              <a:alpha val="90000"/>
            </a:srgbClr>
          </a:solidFill>
          <a:ln w="1908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3300"/>
                </a:solidFill>
                <a:latin typeface="Calibri"/>
              </a:rPr>
              <a:t>Мой первый друг…</a:t>
            </a:r>
            <a:endParaRPr b="1" lang="en-US" sz="44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632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Calibri"/>
                <a:hlinkClick r:id="rId1"/>
              </a:rPr>
              <a:t>История написания стихотворе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«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УЩИНУ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й первый друг, мой друг бесценный!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я судьбу благословил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гда мой двор уединенный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чальным снегом занесенный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вой колокольчик огласи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лю святое провиденье: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 голос мой душе твоей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рует то же утешенье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 озарит он заточенье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учом лицейских ясных дней!       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ушкин и Пущин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Picture 4" descr="Пущин в Михайловском"/>
          <p:cNvPicPr/>
          <p:nvPr/>
        </p:nvPicPr>
        <p:blipFill>
          <a:blip r:embed="rId2"/>
          <a:stretch/>
        </p:blipFill>
        <p:spPr>
          <a:xfrm>
            <a:off x="6300720" y="4005360"/>
            <a:ext cx="2232000" cy="18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763640" y="274320"/>
            <a:ext cx="7129440" cy="1143000"/>
          </a:xfrm>
          <a:prstGeom prst="rect">
            <a:avLst/>
          </a:prstGeom>
          <a:solidFill>
            <a:srgbClr val="ffffff">
              <a:alpha val="90000"/>
            </a:srgbClr>
          </a:solidFill>
          <a:ln w="1908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3300"/>
                </a:solidFill>
                <a:latin typeface="Calibri"/>
              </a:rPr>
              <a:t>Анализ стихотворения</a:t>
            </a:r>
            <a:endParaRPr b="1" lang="en-US" sz="44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632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овы ваши первые чувства от стихотворения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 вы произнесёте 1 строку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им чувством проникнуты строки, в которых он вспоминает встречу в Михайловском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763640" y="274320"/>
            <a:ext cx="7129440" cy="1143000"/>
          </a:xfrm>
          <a:prstGeom prst="rect">
            <a:avLst/>
          </a:prstGeom>
          <a:solidFill>
            <a:srgbClr val="ffffff">
              <a:alpha val="90000"/>
            </a:srgbClr>
          </a:solidFill>
          <a:ln w="1908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3300"/>
                </a:solidFill>
                <a:latin typeface="Calibri"/>
              </a:rPr>
              <a:t>Анализ стихотворения</a:t>
            </a:r>
            <a:endParaRPr b="1" lang="en-US" sz="44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632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 соединяет вторую половину стихотворения с первой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 нужно произнести вторую часть стихотворения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зовите выразительные средства языка, использованные поэтом в стихотворени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763640" y="274320"/>
            <a:ext cx="7129440" cy="1143000"/>
          </a:xfrm>
          <a:prstGeom prst="rect">
            <a:avLst/>
          </a:prstGeom>
          <a:solidFill>
            <a:srgbClr val="ffffff">
              <a:alpha val="90000"/>
            </a:srgbClr>
          </a:solidFill>
          <a:ln w="1908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3300"/>
                </a:solidFill>
                <a:latin typeface="Calibri"/>
              </a:rPr>
              <a:t>Подумаем и обобщим…</a:t>
            </a:r>
            <a:endParaRPr b="1" lang="en-US" sz="44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632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ем для А.С. Пушкина была дружба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 из стихотворения Пушкина станет для вас ориентиром в дружбе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Calibri"/>
              </a:rPr>
              <a:t>                  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Calibri"/>
                <a:hlinkClick r:id="rId1"/>
              </a:rPr>
              <a:t>ранее неизвестное одностишие Пушкин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6633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Calibri"/>
              </a:rPr>
              <a:t>Наслаждение общением - главный признак дружб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519920" indent="-217080">
              <a:lnSpc>
                <a:spcPct val="80000"/>
              </a:lnSpc>
              <a:spcBef>
                <a:spcPts val="601"/>
              </a:spcBef>
              <a:buClr>
                <a:srgbClr val="663300"/>
              </a:buClr>
              <a:buFont typeface="Calibri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3300"/>
                </a:solidFill>
                <a:latin typeface="Calibri"/>
              </a:rPr>
              <a:t>                                                                         </a:t>
            </a:r>
            <a:r>
              <a:rPr b="0" lang="ru-RU" sz="1600" spc="-1" strike="noStrike">
                <a:solidFill>
                  <a:srgbClr val="663300"/>
                </a:solidFill>
                <a:latin typeface="Calibri"/>
              </a:rPr>
              <a:t>Аристотель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63640" y="274320"/>
            <a:ext cx="7129440" cy="1143000"/>
          </a:xfrm>
          <a:prstGeom prst="rect">
            <a:avLst/>
          </a:prstGeom>
          <a:solidFill>
            <a:srgbClr val="ffffff">
              <a:alpha val="90000"/>
            </a:srgbClr>
          </a:solidFill>
          <a:ln w="1908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3300"/>
                </a:solidFill>
                <a:latin typeface="Calibri"/>
              </a:rPr>
              <a:t>Домашнее задание</a:t>
            </a:r>
            <a:endParaRPr b="1" lang="en-US" sz="44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632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читать стр. учебника 50-54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учить наизусть стихотворение «И. Пущину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63640" y="274320"/>
            <a:ext cx="7129440" cy="1143000"/>
          </a:xfrm>
          <a:prstGeom prst="rect">
            <a:avLst/>
          </a:prstGeom>
          <a:solidFill>
            <a:srgbClr val="ffffff">
              <a:alpha val="90000"/>
            </a:srgbClr>
          </a:solidFill>
          <a:ln w="1908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3300"/>
                </a:solidFill>
                <a:latin typeface="Calibri"/>
              </a:rPr>
              <a:t>Используемая литература</a:t>
            </a:r>
            <a:endParaRPr b="1" lang="en-US" sz="44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8120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Литература. 6 класс: учеб. для общеобраз. Учреждений. В 2ч. Ч.1/авт.-сост. В.П. Полухина и др.; под ред. В.Я. Коровиной. – М.: просвещение, 2009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ушкин А.С. Избранное. – М.: Профиздат, 1993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Calibri"/>
                <a:hlinkClick r:id="rId1"/>
              </a:rPr>
              <a:t>http://www.rus-shake.ru/menu/news/6579.html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Calibri"/>
                <a:hlinkClick r:id="rId2"/>
              </a:rPr>
              <a:t>http://school4-perm.narod.ru/dl.htm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Calibri"/>
                <a:hlinkClick r:id="rId3"/>
              </a:rPr>
              <a:t>fio.ifmo.ru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www.kostyor.ru.ht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http://pushkin.niv.ru/pushkin/mesta/mihajlovskoe.ht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http://fotki.yandex.ru/users/alenatchernova/album/91244?p=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Calibri"/>
              </a:rPr>
              <a:t>fotki.yandex.ru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Calibri"/>
              </a:rPr>
              <a:t>ricolor.org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http://pushkin.novgorod.ru/trip_mikh.ht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63640" y="274320"/>
            <a:ext cx="7129440" cy="1143000"/>
          </a:xfrm>
          <a:prstGeom prst="rect">
            <a:avLst/>
          </a:prstGeom>
          <a:solidFill>
            <a:srgbClr val="ffffff">
              <a:alpha val="90000"/>
            </a:srgbClr>
          </a:solidFill>
          <a:ln w="1908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3300"/>
                </a:solidFill>
                <a:latin typeface="Calibri"/>
              </a:rPr>
              <a:t>Цели урока</a:t>
            </a:r>
            <a:endParaRPr b="1" lang="en-US" sz="44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42920" y="1628640"/>
            <a:ext cx="785016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знакомить учащихся со стихотворением А.С. Пушкина «И.И. Пущину»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ормировать умение анализировать лирическое произведение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763640" y="274320"/>
            <a:ext cx="7129440" cy="1143000"/>
          </a:xfrm>
          <a:prstGeom prst="rect">
            <a:avLst/>
          </a:prstGeom>
          <a:solidFill>
            <a:srgbClr val="ffffff">
              <a:alpha val="90000"/>
            </a:srgbClr>
          </a:solidFill>
          <a:ln w="1908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3300"/>
                </a:solidFill>
                <a:latin typeface="Calibri"/>
              </a:rPr>
              <a:t> </a:t>
            </a:r>
            <a:r>
              <a:rPr b="1" lang="ru-RU" sz="4000" spc="-1" strike="noStrike">
                <a:solidFill>
                  <a:srgbClr val="663300"/>
                </a:solidFill>
                <a:latin typeface="Calibri"/>
              </a:rPr>
              <a:t>Дидактические задачи урока</a:t>
            </a:r>
            <a:endParaRPr b="1" lang="en-US" sz="40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86920" y="1600200"/>
            <a:ext cx="7272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ратко познакомить учащихся с Лицейским и Михайловским периодами жизни А.С. Пушкин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ть сведения об И.И. Пущине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яснить, какое место в жизни и творчестве Пушкина занимала дружб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учить видеть за строками стихотворения чувства, переживания, настроения, реальные события и общечеловеческий смыс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763640" y="274320"/>
            <a:ext cx="7129440" cy="1143000"/>
          </a:xfrm>
          <a:prstGeom prst="rect">
            <a:avLst/>
          </a:prstGeom>
          <a:solidFill>
            <a:srgbClr val="ffffff">
              <a:alpha val="90000"/>
            </a:srgbClr>
          </a:solidFill>
          <a:ln w="1908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663300"/>
                </a:solidFill>
                <a:latin typeface="Calibri"/>
              </a:rPr>
              <a:t>Хранитель милых чувств и прошлых наслаждений…</a:t>
            </a:r>
            <a:br>
              <a:rPr sz="4000"/>
            </a:br>
            <a:endParaRPr b="1" lang="en-US" sz="40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632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4" descr="puschkin"/>
          <p:cNvPicPr/>
          <p:nvPr/>
        </p:nvPicPr>
        <p:blipFill>
          <a:blip r:embed="rId1"/>
          <a:stretch/>
        </p:blipFill>
        <p:spPr>
          <a:xfrm>
            <a:off x="1476360" y="1916280"/>
            <a:ext cx="1944720" cy="259236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5"/>
          <p:cNvSpPr/>
          <p:nvPr/>
        </p:nvSpPr>
        <p:spPr>
          <a:xfrm>
            <a:off x="3492360" y="1989000"/>
            <a:ext cx="53276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2 августа 1811года Саша Пушкин выдержал экзамен и был принят в Лиц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1817году 9 июня состоялся 1 выпуск Лицея. Среди выпускников был А.С. Пушки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63640" y="274320"/>
            <a:ext cx="7129440" cy="1143000"/>
          </a:xfrm>
          <a:prstGeom prst="rect">
            <a:avLst/>
          </a:prstGeom>
          <a:solidFill>
            <a:srgbClr val="ffffff">
              <a:alpha val="90000"/>
            </a:srgbClr>
          </a:solidFill>
          <a:ln w="1908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3300"/>
                </a:solidFill>
                <a:latin typeface="Calibri"/>
              </a:rPr>
              <a:t>Царскосельский Лицей</a:t>
            </a:r>
            <a:endParaRPr b="1" lang="en-US" sz="4400" spc="-1" strike="noStrike">
              <a:solidFill>
                <a:srgbClr val="663300"/>
              </a:solidFill>
              <a:latin typeface="Calibri"/>
            </a:endParaRPr>
          </a:p>
        </p:txBody>
      </p:sp>
      <p:pic>
        <p:nvPicPr>
          <p:cNvPr id="96" name="Picture 4" descr="0_42241_8f9fdc60_-1-XL"/>
          <p:cNvPicPr/>
          <p:nvPr/>
        </p:nvPicPr>
        <p:blipFill>
          <a:blip r:embed="rId1"/>
          <a:stretch/>
        </p:blipFill>
        <p:spPr>
          <a:xfrm>
            <a:off x="1403280" y="1268280"/>
            <a:ext cx="3529080" cy="25178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0_421b6_1ff64cb9_-1-XL"/>
          <p:cNvPicPr/>
          <p:nvPr/>
        </p:nvPicPr>
        <p:blipFill>
          <a:blip r:embed="rId2"/>
          <a:stretch/>
        </p:blipFill>
        <p:spPr>
          <a:xfrm>
            <a:off x="5651640" y="1268280"/>
            <a:ext cx="2881080" cy="25178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0_419a8_6c701e7_-1-XL"/>
          <p:cNvPicPr/>
          <p:nvPr/>
        </p:nvPicPr>
        <p:blipFill>
          <a:blip r:embed="rId3"/>
          <a:stretch/>
        </p:blipFill>
        <p:spPr>
          <a:xfrm>
            <a:off x="1403280" y="3938760"/>
            <a:ext cx="3529080" cy="23698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0_41a0c_e794d7bf_-2-XL"/>
          <p:cNvPicPr/>
          <p:nvPr/>
        </p:nvPicPr>
        <p:blipFill>
          <a:blip r:embed="rId4"/>
          <a:stretch/>
        </p:blipFill>
        <p:spPr>
          <a:xfrm>
            <a:off x="5635800" y="3938760"/>
            <a:ext cx="2916000" cy="236988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8"/>
          <p:cNvSpPr/>
          <p:nvPr/>
        </p:nvSpPr>
        <p:spPr>
          <a:xfrm>
            <a:off x="2124000" y="3490920"/>
            <a:ext cx="19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ицей зим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9"/>
          <p:cNvSpPr/>
          <p:nvPr/>
        </p:nvSpPr>
        <p:spPr>
          <a:xfrm>
            <a:off x="5796000" y="350028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ицей осень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0"/>
          <p:cNvSpPr/>
          <p:nvPr/>
        </p:nvSpPr>
        <p:spPr>
          <a:xfrm>
            <a:off x="2050920" y="593892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есменская колон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1"/>
          <p:cNvSpPr/>
          <p:nvPr/>
        </p:nvSpPr>
        <p:spPr>
          <a:xfrm>
            <a:off x="6659640" y="5445000"/>
            <a:ext cx="187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раморный, или Палладиев мос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63640" y="274320"/>
            <a:ext cx="7129440" cy="1143000"/>
          </a:xfrm>
          <a:prstGeom prst="rect">
            <a:avLst/>
          </a:prstGeom>
          <a:solidFill>
            <a:srgbClr val="ffffff">
              <a:alpha val="90000"/>
            </a:srgbClr>
          </a:solidFill>
          <a:ln w="1908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3300"/>
                </a:solidFill>
                <a:latin typeface="Calibri"/>
              </a:rPr>
              <a:t>Дружба – это…</a:t>
            </a:r>
            <a:endParaRPr b="1" lang="en-US" sz="44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632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и музы, ни труды, ни радости досуга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ичто не заменит единственного друг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                               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Calibri"/>
                <a:hlinkClick r:id="rId1"/>
              </a:rPr>
              <a:t>Пушкин Александр Сергеевич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4" descr="09079fbd92ff3de54b5261730f46ef8e"/>
          <p:cNvPicPr/>
          <p:nvPr/>
        </p:nvPicPr>
        <p:blipFill>
          <a:blip r:embed="rId2"/>
          <a:stretch/>
        </p:blipFill>
        <p:spPr>
          <a:xfrm>
            <a:off x="1835280" y="2781360"/>
            <a:ext cx="324144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763640" y="274320"/>
            <a:ext cx="7129440" cy="1143000"/>
          </a:xfrm>
          <a:prstGeom prst="rect">
            <a:avLst/>
          </a:prstGeom>
          <a:solidFill>
            <a:srgbClr val="ffffff">
              <a:alpha val="90000"/>
            </a:srgbClr>
          </a:solidFill>
          <a:ln w="1908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3300"/>
                </a:solidFill>
                <a:latin typeface="Calibri"/>
              </a:rPr>
              <a:t>Дружба – это…</a:t>
            </a:r>
            <a:endParaRPr b="1" lang="en-US" sz="44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31640" y="2491920"/>
            <a:ext cx="734364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 вы поняли высказывание А.С. Пушкина о дружбе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 такое, по-вашему, дружба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763640" y="274320"/>
            <a:ext cx="7129440" cy="1143000"/>
          </a:xfrm>
          <a:prstGeom prst="rect">
            <a:avLst/>
          </a:prstGeom>
          <a:solidFill>
            <a:srgbClr val="ffffff">
              <a:alpha val="90000"/>
            </a:srgbClr>
          </a:solidFill>
          <a:ln w="1908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3300"/>
                </a:solidFill>
                <a:latin typeface="Calibri"/>
              </a:rPr>
              <a:t>Культ дружбы</a:t>
            </a:r>
            <a:endParaRPr b="1" lang="en-US" sz="44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632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Лицее царил культ дружбы, и Пушкин пронёс его через всю свою жизн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го любимыми друзьями стали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. Пущи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. Дельвиг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. Кухельбеке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. Вяземски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4" descr="i"/>
          <p:cNvPicPr/>
          <p:nvPr/>
        </p:nvPicPr>
        <p:blipFill>
          <a:blip r:embed="rId1"/>
          <a:stretch/>
        </p:blipFill>
        <p:spPr>
          <a:xfrm>
            <a:off x="6084720" y="3068640"/>
            <a:ext cx="1727280" cy="216072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5"/>
          <p:cNvSpPr/>
          <p:nvPr/>
        </p:nvSpPr>
        <p:spPr>
          <a:xfrm>
            <a:off x="5796000" y="5433840"/>
            <a:ext cx="2448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. Пущин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fio.ifmo.ru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763640" y="274320"/>
            <a:ext cx="7129440" cy="1143000"/>
          </a:xfrm>
          <a:prstGeom prst="rect">
            <a:avLst/>
          </a:prstGeom>
          <a:solidFill>
            <a:srgbClr val="ffffff">
              <a:alpha val="90000"/>
            </a:srgbClr>
          </a:solidFill>
          <a:ln w="1908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3300"/>
                </a:solidFill>
                <a:latin typeface="Calibri"/>
              </a:rPr>
              <a:t>Пушкин в Михайловском</a:t>
            </a:r>
            <a:endParaRPr b="1" lang="en-US" sz="44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32000" y="4076640"/>
            <a:ext cx="7632720" cy="278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 Михайловском великий поэт писал: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ветствую тебя, пустынный уголок,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ют спокойствия, трудов и вдохновенья,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де льется дней моих невидимый поток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лоне счастья и забвенья.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Text Box 14"/>
          <p:cNvSpPr/>
          <p:nvPr/>
        </p:nvSpPr>
        <p:spPr>
          <a:xfrm>
            <a:off x="4932360" y="2997360"/>
            <a:ext cx="2016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6"/>
          <p:cNvSpPr/>
          <p:nvPr/>
        </p:nvSpPr>
        <p:spPr>
          <a:xfrm>
            <a:off x="6227640" y="2978280"/>
            <a:ext cx="2089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19" descr="0_ace8_e161a9e4_XL"/>
          <p:cNvPicPr/>
          <p:nvPr/>
        </p:nvPicPr>
        <p:blipFill>
          <a:blip r:embed="rId1"/>
          <a:stretch/>
        </p:blipFill>
        <p:spPr>
          <a:xfrm>
            <a:off x="5364000" y="1413000"/>
            <a:ext cx="2232360" cy="316836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20"/>
          <p:cNvSpPr/>
          <p:nvPr/>
        </p:nvSpPr>
        <p:spPr>
          <a:xfrm>
            <a:off x="5724360" y="4005360"/>
            <a:ext cx="2448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21"/>
          <p:cNvSpPr/>
          <p:nvPr/>
        </p:nvSpPr>
        <p:spPr>
          <a:xfrm>
            <a:off x="5651640" y="407664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кабинет Пушк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22" descr="michaylovsml"/>
          <p:cNvPicPr/>
          <p:nvPr/>
        </p:nvPicPr>
        <p:blipFill>
          <a:blip r:embed="rId2"/>
          <a:stretch/>
        </p:blipFill>
        <p:spPr>
          <a:xfrm>
            <a:off x="2124000" y="1844640"/>
            <a:ext cx="2448000" cy="223200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23"/>
          <p:cNvSpPr/>
          <p:nvPr/>
        </p:nvSpPr>
        <p:spPr>
          <a:xfrm>
            <a:off x="2700360" y="3645000"/>
            <a:ext cx="1366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24"/>
          <p:cNvSpPr/>
          <p:nvPr/>
        </p:nvSpPr>
        <p:spPr>
          <a:xfrm>
            <a:off x="2268360" y="3645000"/>
            <a:ext cx="223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00"/>
                </a:solidFill>
                <a:latin typeface="Arial"/>
              </a:rPr>
              <a:t>Усадьба Михайловско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10T06:35:53Z</dcterms:created>
  <dc:creator>1</dc:creator>
  <dc:description/>
  <dc:language>en-US</dc:language>
  <cp:lastModifiedBy>Васильева</cp:lastModifiedBy>
  <dcterms:modified xsi:type="dcterms:W3CDTF">2012-12-14T08:54:23Z</dcterms:modified>
  <cp:revision>71</cp:revision>
  <dc:subject/>
  <dc:title>Мой первый друг…</dc:title>
</cp:coreProperties>
</file>