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27.gif" ContentType="image/gif"/>
  <Override PartName="/ppt/media/image8.png" ContentType="image/png"/>
  <Override PartName="/ppt/media/image28.gif" ContentType="image/gif"/>
  <Override PartName="/ppt/media/image14.jpeg" ContentType="image/jpeg"/>
  <Override PartName="/ppt/media/image30.gif" ContentType="image/gif"/>
  <Override PartName="/ppt/media/image33.png" ContentType="image/png"/>
  <Override PartName="/ppt/media/image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15.jpeg" ContentType="image/jpeg"/>
  <Override PartName="/ppt/media/image16.gif" ContentType="image/gif"/>
  <Override PartName="/ppt/media/image17.gif" ContentType="image/gif"/>
  <Override PartName="/ppt/media/image29.png" ContentType="image/png"/>
  <Override PartName="/ppt/media/image21.jpeg" ContentType="image/jpeg"/>
  <Override PartName="/ppt/media/image22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91AE2-4C95-482F-A467-97A27DA78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EA0AA-D65D-4438-8214-B3E13ECB5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A54AD-FC6A-47CB-A5D6-0FE0A910C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A25E5-9796-4307-A217-854456152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F3062-CFE6-48B7-842B-69F26874B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61DD5-8CDC-4531-82F6-FD8E69E64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862AD-4E40-4316-A4AF-8443994D2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18D2E-9D4B-4F08-A519-C010D4BB2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06A8-28FC-4F54-ACFE-D62DD88F0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D4428-A45C-4736-A0D0-B2116B47B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E067-E3CC-441D-A7E4-0FB245D6B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3E310-5C48-435F-B6A6-51A9D91B9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E6838-6A27-48CA-9ACF-B23970373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1ED7-C6AD-4FAA-B1F1-B1BCC1FF0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8572-D62A-4D1D-9353-54C2146C7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9D12D-D11F-4BAC-93DD-C2266F0F4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43408-EFC5-49FB-B35E-CA58F3B9F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FCC10-660A-4B39-A310-43EAC9D1D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E249-9CBB-4594-8757-AF9EB4314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D3CE2-22F9-4AFF-B545-C017A066C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6192-79CE-422A-B574-B3D6AFDCA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8865E-9278-4524-9093-33B399919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BC891-D301-48C0-AF23-C247C2A64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83E1-BF40-4B87-B7C4-1C3FFCA27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31297-F008-437A-9D95-924F9D1B3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9E49-DD7D-4D1D-8226-651C0AD97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E2C5-5D9D-4D3F-9D3C-42041B99E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2F996-9CA7-4315-8205-46971F4B7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55250-0926-40B5-A186-EB70B9B31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203C7-01FD-405A-89BB-D33396CA1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67B0D-BFB1-42F7-B938-9BF805E64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E9940-8E16-458F-B116-1EE702EBC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E95F2-B29B-417B-AC82-1F368C8DB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5CEE1-B90A-47EB-870F-4441D12FF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5F782-2C09-4740-8C87-9FBF4C0B4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94127-3D80-4082-B033-C729188B9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30929-C142-4857-8B28-154775633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FFF13-158A-4BAC-BE05-7FB947781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F9BC8-A1F8-48B3-9F61-2BC913A95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47DFA-8443-4D36-A729-F1497D405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9E55D-8968-41D1-B0A2-1BE47AA2C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F2F7-3C4B-41B6-B2D7-8C35FA1D9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FEC61-EAC1-44BB-9282-11BCE3B49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A9A43-9778-4C8D-BEA4-DB93B63F9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00D6E-9F78-4D70-B9BB-D0839E780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8407-8EAD-4783-B672-D508F7E7E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31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BDCB-9AEE-4D9A-92E4-C3B71C7FC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36392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DC1B-1580-4777-8C5C-7D045ED60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6392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63920"/>
            <a:ext cx="26474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428D-1D07-42D9-A339-032FE100B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370D-5F71-4293-8B22-A46086972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9090-1FB9-489A-8963-4CF6B5BC8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669C-481F-42C4-95FA-46AA259B7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4819-5CDC-4416-B410-FF462ED8D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7E9D-374D-4FB2-843A-358F10CFC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1279-79C0-4163-B255-005B00F52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36392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8BB6-C2EA-4DDD-B06A-A4994CF0B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31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84EB-24BB-4D0A-A808-6F123D492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C14962-F4C7-4528-9131-1CC82140A7D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6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6.gif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png"/><Relationship Id="rId10" Type="http://schemas.openxmlformats.org/officeDocument/2006/relationships/image" Target="../media/image30.gif"/><Relationship Id="rId11" Type="http://schemas.openxmlformats.org/officeDocument/2006/relationships/image" Target="../media/image14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-1152360" y="0"/>
            <a:ext cx="10296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"/>
          <p:cNvSpPr/>
          <p:nvPr/>
        </p:nvSpPr>
        <p:spPr>
          <a:xfrm>
            <a:off x="500040" y="3429000"/>
            <a:ext cx="833904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31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785880" y="3714840"/>
            <a:ext cx="78534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АВИЛА ПОЖАРНОЙ БЕЗОПАСНОСТИ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ПОВЕДЕНИЯ ПРИ ПОЖАР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2514600" y="195120"/>
            <a:ext cx="4670280" cy="13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2"/>
          <p:cNvSpPr txBox="1"/>
          <p:nvPr/>
        </p:nvSpPr>
        <p:spPr>
          <a:xfrm>
            <a:off x="2743200" y="6094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КИСЛИТЕЛ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3063960"/>
            <a:ext cx="3122640" cy="3903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3112920" y="3106800"/>
            <a:ext cx="3067200" cy="38354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53352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76212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ЮЩЕ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ЕЩЕСТВО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6199200" y="3137040"/>
            <a:ext cx="3024000" cy="3779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525780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548640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СТОЧ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ГОРА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1981080" y="25146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ЕНИ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286080" y="54000"/>
            <a:ext cx="2951280" cy="210168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3400560" y="74520"/>
            <a:ext cx="2984400" cy="196056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4"/>
          <a:srcRect l="4096" t="5140" r="52313" b="48731"/>
          <a:stretch/>
        </p:blipFill>
        <p:spPr>
          <a:xfrm>
            <a:off x="1523880" y="2133720"/>
            <a:ext cx="5791320" cy="45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>
            <a:off x="2514600" y="195120"/>
            <a:ext cx="4670280" cy="13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WordArt 2"/>
          <p:cNvSpPr txBox="1"/>
          <p:nvPr/>
        </p:nvSpPr>
        <p:spPr>
          <a:xfrm>
            <a:off x="2743200" y="6094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КИСЛИТЕЛ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3063960"/>
            <a:ext cx="3122640" cy="390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112920" y="3106800"/>
            <a:ext cx="3067200" cy="38354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>
            <a:off x="53352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76212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ЮЩЕ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ЕЩЕСТВО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6199200" y="3137040"/>
            <a:ext cx="3024000" cy="37796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/>
          <p:cNvSpPr/>
          <p:nvPr/>
        </p:nvSpPr>
        <p:spPr>
          <a:xfrm>
            <a:off x="525780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548640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СТОЧ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ГОРА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1981080" y="25146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ЕНИ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302080" y="4398840"/>
            <a:ext cx="2895840" cy="204624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H="1">
            <a:off x="5381280" y="4363920"/>
            <a:ext cx="2963880" cy="199260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4"/>
          <a:srcRect l="51377" t="47584" r="4082" b="4724"/>
          <a:stretch/>
        </p:blipFill>
        <p:spPr>
          <a:xfrm>
            <a:off x="4991040" y="228600"/>
            <a:ext cx="3927600" cy="3154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5"/>
          <a:stretch/>
        </p:blipFill>
        <p:spPr>
          <a:xfrm>
            <a:off x="266760" y="190440"/>
            <a:ext cx="3987720" cy="31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"/>
          <p:cNvGrpSpPr/>
          <p:nvPr/>
        </p:nvGrpSpPr>
        <p:grpSpPr>
          <a:xfrm>
            <a:off x="-317520" y="-12600"/>
            <a:ext cx="9853560" cy="6878520"/>
            <a:chOff x="-317520" y="-12600"/>
            <a:chExt cx="9853560" cy="687852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-317520" y="-12600"/>
              <a:ext cx="985356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"/>
            <p:cNvSpPr/>
            <p:nvPr/>
          </p:nvSpPr>
          <p:spPr>
            <a:xfrm>
              <a:off x="-304920" y="0"/>
              <a:ext cx="98251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WordArt 4"/>
          <p:cNvSpPr txBox="1"/>
          <p:nvPr/>
        </p:nvSpPr>
        <p:spPr>
          <a:xfrm>
            <a:off x="176040" y="326880"/>
            <a:ext cx="87901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АВИЛА ПОЖАРНОЙ БЕЗОПАСНОСТИ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rcRect l="4375" t="5235" r="52440" b="48661"/>
          <a:stretch/>
        </p:blipFill>
        <p:spPr>
          <a:xfrm>
            <a:off x="1981080" y="1676520"/>
            <a:ext cx="5410440" cy="43322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6"/>
          <p:cNvGrpSpPr/>
          <p:nvPr/>
        </p:nvGrpSpPr>
        <p:grpSpPr>
          <a:xfrm>
            <a:off x="1827360" y="2209680"/>
            <a:ext cx="5406480" cy="3805200"/>
            <a:chOff x="1827360" y="2209680"/>
            <a:chExt cx="5406480" cy="3805200"/>
          </a:xfrm>
        </p:grpSpPr>
        <p:pic>
          <p:nvPicPr>
            <p:cNvPr id="170" name="Picture 7" descr=""/>
            <p:cNvPicPr/>
            <p:nvPr/>
          </p:nvPicPr>
          <p:blipFill>
            <a:blip r:embed="rId3"/>
            <a:srcRect l="21999" t="23335" r="21999" b="16670"/>
            <a:stretch/>
          </p:blipFill>
          <p:spPr>
            <a:xfrm>
              <a:off x="1833480" y="2209680"/>
              <a:ext cx="54003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8"/>
            <p:cNvSpPr/>
            <p:nvPr/>
          </p:nvSpPr>
          <p:spPr>
            <a:xfrm>
              <a:off x="1833480" y="2209680"/>
              <a:ext cx="5400360" cy="3805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H="1">
              <a:off x="1827360" y="2209680"/>
              <a:ext cx="5316480" cy="3721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2055960" y="2757600"/>
            <a:ext cx="5341680" cy="4095000"/>
            <a:chOff x="2055960" y="2757600"/>
            <a:chExt cx="5341680" cy="4095000"/>
          </a:xfrm>
        </p:grpSpPr>
        <p:pic>
          <p:nvPicPr>
            <p:cNvPr id="174" name="Picture 11" descr=""/>
            <p:cNvPicPr/>
            <p:nvPr/>
          </p:nvPicPr>
          <p:blipFill>
            <a:blip r:embed="rId4"/>
            <a:stretch/>
          </p:blipFill>
          <p:spPr>
            <a:xfrm>
              <a:off x="2055960" y="2757600"/>
              <a:ext cx="532908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12"/>
            <p:cNvSpPr/>
            <p:nvPr/>
          </p:nvSpPr>
          <p:spPr>
            <a:xfrm>
              <a:off x="2057400" y="2819160"/>
              <a:ext cx="5253120" cy="3897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2133720" y="2758320"/>
              <a:ext cx="5263920" cy="4094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WordArt 14"/>
          <p:cNvSpPr txBox="1"/>
          <p:nvPr/>
        </p:nvSpPr>
        <p:spPr>
          <a:xfrm>
            <a:off x="304920" y="990720"/>
            <a:ext cx="840096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НЕ ИГРАТЬ С ОТКРЫТЫМ ОГНЕМ!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78" name="WordArt 15"/>
          <p:cNvSpPr txBox="1"/>
          <p:nvPr/>
        </p:nvSpPr>
        <p:spPr>
          <a:xfrm>
            <a:off x="200160" y="1276200"/>
            <a:ext cx="8772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ОЛЬЗОВАТЬСЯ ТОЛЬКО ИСПРАВНЫМИ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ЭЛЕКТРОПРИБОРАМИ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9" name="WordArt 16"/>
          <p:cNvSpPr txBox="1"/>
          <p:nvPr/>
        </p:nvSpPr>
        <p:spPr>
          <a:xfrm>
            <a:off x="460440" y="2057400"/>
            <a:ext cx="8683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НЕ ОСТАВЛЯТЬ БЕЗ ПРИСМОТР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ВКЛЮЧЕННЫМИ ЭЛЕКТРОПРИБОР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pic>
        <p:nvPicPr>
          <p:cNvPr id="180" name="Picture 17" descr=""/>
          <p:cNvPicPr/>
          <p:nvPr/>
        </p:nvPicPr>
        <p:blipFill>
          <a:blip r:embed="rId5"/>
          <a:srcRect l="43002" t="55346" r="1875" b="4001"/>
          <a:stretch/>
        </p:blipFill>
        <p:spPr>
          <a:xfrm>
            <a:off x="1523880" y="0"/>
            <a:ext cx="4613400" cy="2552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6"/>
          <a:stretch/>
        </p:blipFill>
        <p:spPr>
          <a:xfrm>
            <a:off x="2286000" y="0"/>
            <a:ext cx="4343400" cy="35020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9"/>
          <p:cNvSpPr txBox="1"/>
          <p:nvPr/>
        </p:nvSpPr>
        <p:spPr>
          <a:xfrm>
            <a:off x="431640" y="2739960"/>
            <a:ext cx="8756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НЕ ПОЛЬЗОВАТЬСЯ БЕЗ РАЗРЕШЕНИЯ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ВЗРОСЛЫХ ГОРЮЧИМИ И 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ЛЕГКОВОСПЛАМЕНЯЮЩИМИСЯ ЖИДКОСТЯМИ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3" name="WordArt 20"/>
          <p:cNvSpPr txBox="1"/>
          <p:nvPr/>
        </p:nvSpPr>
        <p:spPr>
          <a:xfrm>
            <a:off x="930240" y="3852720"/>
            <a:ext cx="785196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НЕ ОСТАВЛЯТЬ БЕЗ ПРИСМОТР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ЗАЖЖЕННЫЕ ГАЗОВЫЕ ПЛИТ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84" name="WordArt 21"/>
          <p:cNvSpPr txBox="1"/>
          <p:nvPr/>
        </p:nvSpPr>
        <p:spPr>
          <a:xfrm>
            <a:off x="123840" y="4457880"/>
            <a:ext cx="879804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ОБЛЮДАТЬ МЕРЫ БЕЗОПАСНОСТИ ПРИ ОБРАЩЕНИИ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 ПИРОТЕХНИЧЕСКИМИ ИЗДЕЛИЯМИ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WordArt 22"/>
          <p:cNvSpPr txBox="1"/>
          <p:nvPr/>
        </p:nvSpPr>
        <p:spPr>
          <a:xfrm>
            <a:off x="324000" y="5305320"/>
            <a:ext cx="875340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pic>
        <p:nvPicPr>
          <p:cNvPr id="186" name="Picture 28" descr="C:\Users\teacher17\Pictures\Новый рисунок (16).jpg"/>
          <p:cNvPicPr/>
          <p:nvPr/>
        </p:nvPicPr>
        <p:blipFill>
          <a:blip r:embed="rId7"/>
          <a:stretch/>
        </p:blipFill>
        <p:spPr>
          <a:xfrm>
            <a:off x="2214720" y="142920"/>
            <a:ext cx="4578120" cy="37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"/>
          <p:cNvGrpSpPr/>
          <p:nvPr/>
        </p:nvGrpSpPr>
        <p:grpSpPr>
          <a:xfrm>
            <a:off x="-317520" y="-12600"/>
            <a:ext cx="9853560" cy="6878520"/>
            <a:chOff x="-317520" y="-12600"/>
            <a:chExt cx="9853560" cy="6878520"/>
          </a:xfrm>
        </p:grpSpPr>
        <p:pic>
          <p:nvPicPr>
            <p:cNvPr id="188" name="Picture 2" descr=""/>
            <p:cNvPicPr/>
            <p:nvPr/>
          </p:nvPicPr>
          <p:blipFill>
            <a:blip r:embed="rId1"/>
            <a:stretch/>
          </p:blipFill>
          <p:spPr>
            <a:xfrm>
              <a:off x="-317520" y="-12600"/>
              <a:ext cx="985356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3"/>
            <p:cNvSpPr/>
            <p:nvPr/>
          </p:nvSpPr>
          <p:spPr>
            <a:xfrm>
              <a:off x="-304920" y="0"/>
              <a:ext cx="98251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WordArt 4"/>
          <p:cNvSpPr txBox="1"/>
          <p:nvPr/>
        </p:nvSpPr>
        <p:spPr>
          <a:xfrm>
            <a:off x="201600" y="380880"/>
            <a:ext cx="87631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ЧТО НЕЛЬЗЯ ДЕЛАТЬ ПРИ ПОЖАРЕ: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rcRect l="34875" t="3528" r="34918" b="64372"/>
          <a:stretch/>
        </p:blipFill>
        <p:spPr>
          <a:xfrm>
            <a:off x="1371600" y="1600200"/>
            <a:ext cx="4648320" cy="3706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"/>
          <p:cNvGrpSpPr/>
          <p:nvPr/>
        </p:nvGrpSpPr>
        <p:grpSpPr>
          <a:xfrm>
            <a:off x="1447920" y="2133720"/>
            <a:ext cx="5165640" cy="3825720"/>
            <a:chOff x="1447920" y="2133720"/>
            <a:chExt cx="5165640" cy="3825720"/>
          </a:xfrm>
        </p:grpSpPr>
        <p:sp>
          <p:nvSpPr>
            <p:cNvPr id="193" name="Rectangle 7"/>
            <p:cNvSpPr/>
            <p:nvPr/>
          </p:nvSpPr>
          <p:spPr>
            <a:xfrm>
              <a:off x="1447920" y="2133720"/>
              <a:ext cx="5165640" cy="38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8" descr=""/>
            <p:cNvPicPr/>
            <p:nvPr/>
          </p:nvPicPr>
          <p:blipFill>
            <a:blip r:embed="rId3"/>
            <a:stretch/>
          </p:blipFill>
          <p:spPr>
            <a:xfrm>
              <a:off x="4735440" y="2200320"/>
              <a:ext cx="60660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" descr=""/>
            <p:cNvPicPr/>
            <p:nvPr/>
          </p:nvPicPr>
          <p:blipFill>
            <a:blip r:embed="rId4"/>
            <a:stretch/>
          </p:blipFill>
          <p:spPr>
            <a:xfrm>
              <a:off x="5581800" y="2290680"/>
              <a:ext cx="6062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"/>
            <p:cNvPicPr/>
            <p:nvPr/>
          </p:nvPicPr>
          <p:blipFill>
            <a:blip r:embed="rId5"/>
            <a:stretch/>
          </p:blipFill>
          <p:spPr>
            <a:xfrm>
              <a:off x="4548240" y="2473200"/>
              <a:ext cx="60480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1" descr=""/>
            <p:cNvPicPr/>
            <p:nvPr/>
          </p:nvPicPr>
          <p:blipFill>
            <a:blip r:embed="rId6"/>
            <a:stretch/>
          </p:blipFill>
          <p:spPr>
            <a:xfrm>
              <a:off x="5111640" y="2473200"/>
              <a:ext cx="60480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"/>
            <p:cNvPicPr/>
            <p:nvPr/>
          </p:nvPicPr>
          <p:blipFill>
            <a:blip r:embed="rId7"/>
            <a:stretch/>
          </p:blipFill>
          <p:spPr>
            <a:xfrm>
              <a:off x="4924440" y="2565360"/>
              <a:ext cx="60480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3" descr=""/>
            <p:cNvPicPr/>
            <p:nvPr/>
          </p:nvPicPr>
          <p:blipFill>
            <a:blip r:embed="rId8"/>
            <a:stretch/>
          </p:blipFill>
          <p:spPr>
            <a:xfrm>
              <a:off x="5300640" y="2565360"/>
              <a:ext cx="60660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" descr=""/>
            <p:cNvPicPr/>
            <p:nvPr/>
          </p:nvPicPr>
          <p:blipFill>
            <a:blip r:embed="rId9"/>
            <a:srcRect l="1995" t="1019" r="0" b="0"/>
            <a:stretch/>
          </p:blipFill>
          <p:spPr>
            <a:xfrm>
              <a:off x="4487760" y="3268800"/>
              <a:ext cx="2003400" cy="23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5" descr=""/>
            <p:cNvPicPr/>
            <p:nvPr/>
          </p:nvPicPr>
          <p:blipFill>
            <a:blip r:embed="rId10"/>
            <a:stretch/>
          </p:blipFill>
          <p:spPr>
            <a:xfrm>
              <a:off x="1541520" y="3513240"/>
              <a:ext cx="38844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Line 16"/>
          <p:cNvSpPr/>
          <p:nvPr/>
        </p:nvSpPr>
        <p:spPr>
          <a:xfrm>
            <a:off x="1208160" y="2003400"/>
            <a:ext cx="5486400" cy="41148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H="1">
            <a:off x="1222200" y="1992240"/>
            <a:ext cx="5499360" cy="41148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11"/>
          <a:srcRect l="10313" t="62602" r="59087" b="4416"/>
          <a:stretch/>
        </p:blipFill>
        <p:spPr>
          <a:xfrm>
            <a:off x="4495680" y="3098880"/>
            <a:ext cx="4648320" cy="3759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9"/>
          <p:cNvSpPr/>
          <p:nvPr/>
        </p:nvSpPr>
        <p:spPr>
          <a:xfrm rot="17040000">
            <a:off x="6392520" y="4843080"/>
            <a:ext cx="1600200" cy="914400"/>
          </a:xfrm>
          <a:prstGeom prst="rightArrow">
            <a:avLst>
              <a:gd name="adj1" fmla="val 43528"/>
              <a:gd name="adj2" fmla="val 89299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6418080" y="4772160"/>
            <a:ext cx="1384200" cy="117612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6707160" y="4740120"/>
            <a:ext cx="827280" cy="13050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20100000">
            <a:off x="7367400" y="5121000"/>
            <a:ext cx="1600200" cy="914400"/>
          </a:xfrm>
          <a:prstGeom prst="rightArrow">
            <a:avLst>
              <a:gd name="adj1" fmla="val 43528"/>
              <a:gd name="adj2" fmla="val 89299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7483320" y="5060880"/>
            <a:ext cx="1384560" cy="117648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7772400" y="5029200"/>
            <a:ext cx="826920" cy="13050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25"/>
          <p:cNvSpPr txBox="1"/>
          <p:nvPr/>
        </p:nvSpPr>
        <p:spPr>
          <a:xfrm>
            <a:off x="426960" y="1206360"/>
            <a:ext cx="59421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ТУШИТЬ ОГОНЬ ДО ВЫЗОВА ПОЖАРНЫХ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WordArt 26"/>
          <p:cNvSpPr txBox="1"/>
          <p:nvPr/>
        </p:nvSpPr>
        <p:spPr>
          <a:xfrm>
            <a:off x="431640" y="1679400"/>
            <a:ext cx="675324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ТУШИТЬ ВОДОЙ ЭЛЕКТРИЧЕСКИЕ ПРИБО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WordArt 27"/>
          <p:cNvSpPr txBox="1"/>
          <p:nvPr/>
        </p:nvSpPr>
        <p:spPr>
          <a:xfrm>
            <a:off x="431640" y="2230560"/>
            <a:ext cx="74930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ПЫТАТЬСЯ ПРОЙТИ ЧЕРЕЗ ЗАДЫМЛЕННУЮ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ЕСТНИЧНУЮ КЛЕТКУ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WordArt 28"/>
          <p:cNvSpPr txBox="1"/>
          <p:nvPr/>
        </p:nvSpPr>
        <p:spPr>
          <a:xfrm>
            <a:off x="434880" y="3151080"/>
            <a:ext cx="369108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ИСПОЛЬЗОВАТЬ ЛИФТ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WordArt 29"/>
          <p:cNvSpPr txBox="1"/>
          <p:nvPr/>
        </p:nvSpPr>
        <p:spPr>
          <a:xfrm>
            <a:off x="433440" y="3589200"/>
            <a:ext cx="8645400" cy="10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СПУСКАТЬСЯ С ВЕРХНИХ ЭТАЖЕЙ ПО ВОДОСТОЧНЫ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ТРУБАМ И ВЕРЕВКАМ ЕСЛИ В ЭТОМ НЕТ ОСТРО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ЕОБХОДИМОСТ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WordArt 30"/>
          <p:cNvSpPr txBox="1"/>
          <p:nvPr/>
        </p:nvSpPr>
        <p:spPr>
          <a:xfrm>
            <a:off x="471600" y="4915080"/>
            <a:ext cx="739116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БЕЗ НЕОБХОДИМОСТИ ОТКРЫВАТЬ ДВЕРИ И ОКН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WordArt 31"/>
          <p:cNvSpPr txBox="1"/>
          <p:nvPr/>
        </p:nvSpPr>
        <p:spPr>
          <a:xfrm>
            <a:off x="434880" y="5472000"/>
            <a:ext cx="7853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ВЫПРЫГИВАТЬ ИЗ ОКОН ВЫШЕ ВТОРОГО ЭТАЖ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8" name="Picture 32" descr=""/>
          <p:cNvPicPr/>
          <p:nvPr/>
        </p:nvPicPr>
        <p:blipFill>
          <a:blip r:embed="rId12"/>
          <a:srcRect l="20003" t="4668" r="20003" b="4668"/>
          <a:stretch/>
        </p:blipFill>
        <p:spPr>
          <a:xfrm>
            <a:off x="5803920" y="0"/>
            <a:ext cx="29606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457200" y="533520"/>
            <a:ext cx="2743200" cy="2144520"/>
          </a:xfrm>
          <a:prstGeom prst="rect">
            <a:avLst/>
          </a:prstGeom>
          <a:solidFill>
            <a:srgbClr val="339933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896080" y="504720"/>
            <a:ext cx="2657520" cy="2144880"/>
          </a:xfrm>
          <a:prstGeom prst="rect">
            <a:avLst/>
          </a:prstGeom>
          <a:solidFill>
            <a:srgbClr val="339933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896080" y="4167360"/>
            <a:ext cx="2662200" cy="2158920"/>
          </a:xfrm>
          <a:prstGeom prst="rect">
            <a:avLst/>
          </a:prstGeom>
          <a:solidFill>
            <a:srgbClr val="339933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80960" y="4152960"/>
            <a:ext cx="2662200" cy="2154240"/>
          </a:xfrm>
          <a:prstGeom prst="rect">
            <a:avLst/>
          </a:prstGeom>
          <a:solidFill>
            <a:srgbClr val="339933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rcRect l="16968" t="17312" r="17620" b="15334"/>
          <a:stretch/>
        </p:blipFill>
        <p:spPr>
          <a:xfrm>
            <a:off x="-123840" y="-65160"/>
            <a:ext cx="9267840" cy="71582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114480" y="2162160"/>
            <a:ext cx="214920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111400" y="152280"/>
            <a:ext cx="214956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932360" y="174600"/>
            <a:ext cx="214956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42160" y="2178000"/>
            <a:ext cx="214956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289560" y="4606920"/>
            <a:ext cx="2130480" cy="17082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427560" y="5091120"/>
            <a:ext cx="214920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41520" y="4583160"/>
            <a:ext cx="2149200" cy="172404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rcRect l="19718" t="17445" r="21069" b="22000"/>
          <a:stretch/>
        </p:blipFill>
        <p:spPr>
          <a:xfrm>
            <a:off x="-33480" y="-50760"/>
            <a:ext cx="9177480" cy="7040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368280" y="247680"/>
            <a:ext cx="2330640" cy="18684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462480" y="262080"/>
            <a:ext cx="2330280" cy="18684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499080" y="249120"/>
            <a:ext cx="2330640" cy="186876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499080" y="2557440"/>
            <a:ext cx="2330640" cy="18684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453360" y="4835520"/>
            <a:ext cx="2330280" cy="18684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483000" y="4859280"/>
            <a:ext cx="2330280" cy="186840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47840" y="4821120"/>
            <a:ext cx="2330280" cy="1868760"/>
          </a:xfrm>
          <a:prstGeom prst="rect">
            <a:avLst/>
          </a:prstGeom>
          <a:solidFill>
            <a:srgbClr val="33993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0" y="428760"/>
            <a:ext cx="92296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0" y="-12600"/>
            <a:ext cx="9536040" cy="6867360"/>
            <a:chOff x="0" y="-12600"/>
            <a:chExt cx="9536040" cy="6867360"/>
          </a:xfrm>
        </p:grpSpPr>
        <p:pic>
          <p:nvPicPr>
            <p:cNvPr id="24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12600"/>
              <a:ext cx="953604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5"/>
            <p:cNvSpPr/>
            <p:nvPr/>
          </p:nvSpPr>
          <p:spPr>
            <a:xfrm>
              <a:off x="11160" y="0"/>
              <a:ext cx="9509040" cy="68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0"/>
          <a:ext cx="9880560" cy="6858000"/>
        </p:xfrm>
        <a:graphic>
          <a:graphicData uri="http://schemas.openxmlformats.org/drawingml/2006/table">
            <a:tbl>
              <a:tblPr/>
              <a:tblGrid>
                <a:gridCol w="7588080"/>
                <a:gridCol w="229248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опрос с вариантами поступков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 предлагаемой ситуаци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еночная таблиц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2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69800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Если случится пожар, как ты будешь действовать</a:t>
                      </a: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позвоню по телефону «01»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Позову на помощ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.убегу, никому ничего не скажу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. Если комната начала наполнятся густым едким дымом</a:t>
                      </a: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Открою окно, не закрыв дверь 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 Буду продвигаться к выходу 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.Закрою рот и нос мокрым носовым платком и буду продвигаться к выходу, прижимаясь к полу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0" y="0"/>
            <a:ext cx="9840960" cy="6865920"/>
            <a:chOff x="0" y="0"/>
            <a:chExt cx="9840960" cy="686592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84096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2600" y="12600"/>
              <a:ext cx="9812520" cy="68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0"/>
          <a:ext cx="9788400" cy="6858000"/>
        </p:xfrm>
        <a:graphic>
          <a:graphicData uri="http://schemas.openxmlformats.org/drawingml/2006/table">
            <a:tbl>
              <a:tblPr/>
              <a:tblGrid>
                <a:gridCol w="7429680"/>
                <a:gridCol w="235872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 Если загорелась электропроводка!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Verdana"/>
                        </a:rPr>
                        <a:t>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  Буду тушить вод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  Обесточу электросеть, затем приступаю к тушению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 . Буду звать на помощь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 Если на вас загорелась одежда!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. Побегу, попытаюсь сорвать одежду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  Остановлюсь, упаду, покачусь, сбивая пламя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. Завернусь в одеяло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. </a:t>
                      </a: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Если при приготовлении пищи загорелся жир на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вородке!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 Накрою сковородку мокрым полотенцем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 Буду тушить вод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. Попытаюсь вынести горящую сковородку на улицу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6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"/>
          <p:cNvGrpSpPr/>
          <p:nvPr/>
        </p:nvGrpSpPr>
        <p:grpSpPr>
          <a:xfrm>
            <a:off x="-165240" y="139680"/>
            <a:ext cx="9853920" cy="6878520"/>
            <a:chOff x="-165240" y="139680"/>
            <a:chExt cx="9853920" cy="6878520"/>
          </a:xfrm>
        </p:grpSpPr>
        <p:pic>
          <p:nvPicPr>
            <p:cNvPr id="56" name="Picture 2" descr=""/>
            <p:cNvPicPr/>
            <p:nvPr/>
          </p:nvPicPr>
          <p:blipFill>
            <a:blip r:embed="rId1"/>
            <a:stretch/>
          </p:blipFill>
          <p:spPr>
            <a:xfrm>
              <a:off x="-165240" y="139680"/>
              <a:ext cx="985392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3"/>
            <p:cNvSpPr/>
            <p:nvPr/>
          </p:nvSpPr>
          <p:spPr>
            <a:xfrm>
              <a:off x="-152280" y="152280"/>
              <a:ext cx="982476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-142920" y="0"/>
            <a:ext cx="9569520" cy="6865920"/>
            <a:chOff x="-142920" y="0"/>
            <a:chExt cx="9569520" cy="6865920"/>
          </a:xfrm>
        </p:grpSpPr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-142920" y="0"/>
              <a:ext cx="95695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6"/>
            <p:cNvSpPr/>
            <p:nvPr/>
          </p:nvSpPr>
          <p:spPr>
            <a:xfrm>
              <a:off x="-130320" y="12600"/>
              <a:ext cx="9542520" cy="68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AutoShape 7"/>
          <p:cNvSpPr/>
          <p:nvPr/>
        </p:nvSpPr>
        <p:spPr>
          <a:xfrm>
            <a:off x="53352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1981080" y="25146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ЕНИ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762120" y="4876920"/>
            <a:ext cx="2895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ЮЧЕ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ЕЩЕСТВО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2514600" y="195120"/>
            <a:ext cx="4670280" cy="1328760"/>
          </a:xfrm>
          <a:prstGeom prst="roundRect">
            <a:avLst>
              <a:gd name="adj" fmla="val 16667"/>
            </a:avLst>
          </a:prstGeom>
          <a:solidFill>
            <a:srgbClr val="ff00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11"/>
          <p:cNvSpPr txBox="1"/>
          <p:nvPr/>
        </p:nvSpPr>
        <p:spPr>
          <a:xfrm>
            <a:off x="2743200" y="6094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КИСЛИТЕЛ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525780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548640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СТОЧ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ГОРА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1523880" y="5715000"/>
            <a:ext cx="1524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агретое до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пределенной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температуры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0" y="0"/>
            <a:ext cx="9055080" cy="6854760"/>
            <a:chOff x="0" y="0"/>
            <a:chExt cx="9055080" cy="6854760"/>
          </a:xfrm>
        </p:grpSpPr>
        <p:pic>
          <p:nvPicPr>
            <p:cNvPr id="26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05508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"/>
            <p:cNvSpPr/>
            <p:nvPr/>
          </p:nvSpPr>
          <p:spPr>
            <a:xfrm>
              <a:off x="11160" y="12600"/>
              <a:ext cx="9028080" cy="68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6832440"/>
                <a:gridCol w="2313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б. Если при разжигании газовой колонки или духовки газовой плиты спичка погасла, не успев воспламенить газ, что ты будешь делать! 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 Достану вторую спичку и стану зажигать газ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buClr>
                          <a:srgbClr val="1f497d"/>
                        </a:buClr>
                        <a:buFont typeface="Verdana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 Перекрою газ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.  Перекрою газ и проверю тягу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. Если тебя отрезало огнем в квартире на пятом этаже (телефона нет), что ты будешь делать!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. Мокрыми полотенцами, простынями заткну щели в дверном проеме, сократив приток дыма, через окно буду звать на помощь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2.Сделаю веревку из скрученных простыней и буду спускаться вниз 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.  Буду звать на помощь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6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-12600" y="-12600"/>
            <a:ext cx="9853560" cy="6878520"/>
            <a:chOff x="-12600" y="-12600"/>
            <a:chExt cx="9853560" cy="687852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85356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0" y="0"/>
              <a:ext cx="98251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9860040" cy="6858000"/>
        </p:xfrm>
        <a:graphic>
          <a:graphicData uri="http://schemas.openxmlformats.org/drawingml/2006/table">
            <a:tbl>
              <a:tblPr/>
              <a:tblGrid>
                <a:gridCol w="7416720"/>
                <a:gridCol w="244332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69800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. Если ты увидел, что маленькие дети бросают в огонь бумагу, незнакомые предметы. аэрозольные упаковки, как ты должен поступить!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Остановлю, объясню, что это опас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ойду мимо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опытаюсь переключить внимание детей на другое занятие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. Если во время интересной телепередачи ты увидел, что из телевизора пошел дым, как ты должен поступить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одолжу смотреть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Позову на помощь взрослых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76280" indent="-469800">
                        <a:lnSpc>
                          <a:spcPct val="10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76280"/>
                          <a:tab algn="l" pos="923760"/>
                          <a:tab algn="l" pos="1373040"/>
                          <a:tab algn="l" pos="1822320"/>
                          <a:tab algn="l" pos="2271600"/>
                          <a:tab algn="l" pos="2720880"/>
                          <a:tab algn="l" pos="3170160"/>
                          <a:tab algn="l" pos="3619440"/>
                          <a:tab algn="l" pos="4068720"/>
                          <a:tab algn="l" pos="4518000"/>
                          <a:tab algn="l" pos="4967280"/>
                          <a:tab algn="l" pos="5416560"/>
                          <a:tab algn="l" pos="5865840"/>
                          <a:tab algn="l" pos="6315120"/>
                          <a:tab algn="l" pos="6764400"/>
                          <a:tab algn="l" pos="7213680"/>
                          <a:tab algn="l" pos="7662960"/>
                          <a:tab algn="l" pos="8112240"/>
                          <a:tab algn="l" pos="8561520"/>
                          <a:tab algn="l" pos="9010800"/>
                          <a:tab algn="l" pos="94600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ключу телевизор, позвоню в пожарную охрану, приступлю к тушению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тоги анке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 сумме вы набрал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2-27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ков, то вы хорошо знаете правила пожарной безопасности, всегда соблюдаете их и сможете научить своих товарищ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 набрал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8—2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ка, то вы должны быть осмотрительны в выборе действий в сложной ситу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 набрали менее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ков, то вам необходимо серьезно заняться изучением правил пожарной безопасност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Это поможет вам избежать пожара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а в экстремальной ситуации — сохранить свою жизн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-1440" y="0"/>
            <a:ext cx="9142200" cy="6867360"/>
            <a:chOff x="-1440" y="0"/>
            <a:chExt cx="9142200" cy="6867360"/>
          </a:xfrm>
        </p:grpSpPr>
        <p:pic>
          <p:nvPicPr>
            <p:cNvPr id="72" name="Picture 4" descr=""/>
            <p:cNvPicPr/>
            <p:nvPr/>
          </p:nvPicPr>
          <p:blipFill>
            <a:blip r:embed="rId1"/>
            <a:stretch/>
          </p:blipFill>
          <p:spPr>
            <a:xfrm>
              <a:off x="-1440" y="0"/>
              <a:ext cx="914220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5"/>
            <p:cNvSpPr/>
            <p:nvPr/>
          </p:nvSpPr>
          <p:spPr>
            <a:xfrm>
              <a:off x="11160" y="12600"/>
              <a:ext cx="9115200" cy="68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         </a:t>
              </a: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Пожар – неконтролируемое горение,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         </a:t>
              </a: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причиняющее материальный ущерб,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         </a:t>
              </a: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вред жизни и здоровью граждан,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         </a:t>
              </a:r>
              <a:r>
                <a:rPr b="0" lang="ru-RU" sz="3200" spc="-1" strike="noStrike">
                  <a:solidFill>
                    <a:srgbClr val="7030a0"/>
                  </a:solidFill>
                  <a:latin typeface="Arial"/>
                </a:rPr>
                <a:t>интересам общества и государства.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6"/>
          <p:cNvSpPr/>
          <p:nvPr/>
        </p:nvSpPr>
        <p:spPr>
          <a:xfrm>
            <a:off x="2286000" y="2347920"/>
            <a:ext cx="457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87480" y="71280"/>
            <a:ext cx="91278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64720" y="1371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Зз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9480" y="68580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7 месяцев 2010 года в Псковской обла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ошло 753 пожар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ьный ущерб  45млн. 718 тыс. рубл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ибло 109 челове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или травмы 63 человек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0" y="-763560"/>
            <a:ext cx="9828360" cy="7977240"/>
            <a:chOff x="0" y="-763560"/>
            <a:chExt cx="9828360" cy="797724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495360"/>
              <a:ext cx="9499680" cy="77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5"/>
            <p:cNvSpPr/>
            <p:nvPr/>
          </p:nvSpPr>
          <p:spPr>
            <a:xfrm>
              <a:off x="1154160" y="-763560"/>
              <a:ext cx="8674200" cy="70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WordArt 6"/>
          <p:cNvSpPr txBox="1"/>
          <p:nvPr/>
        </p:nvSpPr>
        <p:spPr>
          <a:xfrm>
            <a:off x="428760" y="380880"/>
            <a:ext cx="8286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ИЧИНЫ ПОЖАР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329080" cy="24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3643200" y="4214880"/>
            <a:ext cx="5329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0" y="-12600"/>
            <a:ext cx="9536040" cy="6867360"/>
            <a:chOff x="0" y="-12600"/>
            <a:chExt cx="9536040" cy="6867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12600"/>
              <a:ext cx="953604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11160" y="0"/>
              <a:ext cx="9509040" cy="68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71280" y="144360"/>
            <a:ext cx="439272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4464000" y="217440"/>
            <a:ext cx="4392720" cy="244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58680" y="3220920"/>
            <a:ext cx="4260960" cy="311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4608360" y="3240000"/>
            <a:ext cx="418788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0" y="-12600"/>
            <a:ext cx="9536040" cy="6867360"/>
            <a:chOff x="0" y="-12600"/>
            <a:chExt cx="9536040" cy="686736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12600"/>
              <a:ext cx="953604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11160" y="0"/>
              <a:ext cx="9509040" cy="68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WordArt 6"/>
          <p:cNvSpPr txBox="1"/>
          <p:nvPr/>
        </p:nvSpPr>
        <p:spPr>
          <a:xfrm>
            <a:off x="0" y="2928960"/>
            <a:ext cx="8782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08360" y="387360"/>
            <a:ext cx="4407120" cy="254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0" y="144360"/>
            <a:ext cx="4334040" cy="299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4"/>
          <a:stretch/>
        </p:blipFill>
        <p:spPr>
          <a:xfrm>
            <a:off x="5286240" y="3286080"/>
            <a:ext cx="4224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"/>
          <p:cNvGrpSpPr/>
          <p:nvPr/>
        </p:nvGrpSpPr>
        <p:grpSpPr>
          <a:xfrm>
            <a:off x="-317520" y="-12600"/>
            <a:ext cx="9853560" cy="6878520"/>
            <a:chOff x="-317520" y="-12600"/>
            <a:chExt cx="9853560" cy="6878520"/>
          </a:xfrm>
        </p:grpSpPr>
        <p:pic>
          <p:nvPicPr>
            <p:cNvPr id="108" name="Picture 2" descr=""/>
            <p:cNvPicPr/>
            <p:nvPr/>
          </p:nvPicPr>
          <p:blipFill>
            <a:blip r:embed="rId1"/>
            <a:stretch/>
          </p:blipFill>
          <p:spPr>
            <a:xfrm>
              <a:off x="-317520" y="-12600"/>
              <a:ext cx="985356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"/>
            <p:cNvSpPr/>
            <p:nvPr/>
          </p:nvSpPr>
          <p:spPr>
            <a:xfrm>
              <a:off x="-304920" y="0"/>
              <a:ext cx="98251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AutoShape 4"/>
          <p:cNvSpPr/>
          <p:nvPr/>
        </p:nvSpPr>
        <p:spPr>
          <a:xfrm>
            <a:off x="53352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2257560" y="1962000"/>
            <a:ext cx="415908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СНОВНЫ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РАЖАЮЩИ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ФАКТОРЫ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ЖАР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76212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ТОКСИЧНЫ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ОДУКТ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Е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2514600" y="195120"/>
            <a:ext cx="4670280" cy="1328760"/>
          </a:xfrm>
          <a:prstGeom prst="roundRect">
            <a:avLst>
              <a:gd name="adj" fmla="val 16667"/>
            </a:avLst>
          </a:prstGeom>
          <a:solidFill>
            <a:srgbClr val="ff00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2743200" y="304920"/>
            <a:ext cx="4191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ТЕРЯ ВИДИМОСТ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СЛЕДСТВИ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ДЫМЛЕ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525780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548640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НИЖЕНИ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ОНЦЕНТРАЦИ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ИСЛОРО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09440" y="2960640"/>
            <a:ext cx="2765520" cy="1349280"/>
          </a:xfrm>
          <a:prstGeom prst="roundRect">
            <a:avLst>
              <a:gd name="adj" fmla="val 16667"/>
            </a:avLst>
          </a:prstGeom>
          <a:solidFill>
            <a:srgbClr val="ff33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303120" y="3189240"/>
            <a:ext cx="2298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ТКРЫТЫ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ГО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6021360" y="2884320"/>
            <a:ext cx="2917800" cy="1349640"/>
          </a:xfrm>
          <a:prstGeom prst="roundRect">
            <a:avLst>
              <a:gd name="adj" fmla="val 16667"/>
            </a:avLst>
          </a:prstGeom>
          <a:solidFill>
            <a:srgbClr val="ff33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6272280" y="3156120"/>
            <a:ext cx="2477880" cy="75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СОКА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ТЕМПЕРАТУР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2"/>
          <a:srcRect l="10729" t="63061" r="59626" b="5197"/>
          <a:stretch/>
        </p:blipFill>
        <p:spPr>
          <a:xfrm>
            <a:off x="1295280" y="847800"/>
            <a:ext cx="4240440" cy="3405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"/>
          <p:cNvPicPr/>
          <p:nvPr/>
        </p:nvPicPr>
        <p:blipFill>
          <a:blip r:embed="rId3"/>
          <a:srcRect l="67449" t="14809" r="2877" b="53115"/>
          <a:stretch/>
        </p:blipFill>
        <p:spPr>
          <a:xfrm>
            <a:off x="2590920" y="58680"/>
            <a:ext cx="3504960" cy="2841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"/>
          <p:cNvPicPr/>
          <p:nvPr/>
        </p:nvPicPr>
        <p:blipFill>
          <a:blip r:embed="rId4"/>
          <a:srcRect l="2249" t="14306" r="67794" b="53531"/>
          <a:stretch/>
        </p:blipFill>
        <p:spPr>
          <a:xfrm>
            <a:off x="2286000" y="2438280"/>
            <a:ext cx="4267080" cy="343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"/>
          <p:cNvPicPr/>
          <p:nvPr/>
        </p:nvPicPr>
        <p:blipFill>
          <a:blip r:embed="rId5"/>
          <a:stretch/>
        </p:blipFill>
        <p:spPr>
          <a:xfrm>
            <a:off x="2286000" y="2428920"/>
            <a:ext cx="4359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2514600" y="195120"/>
            <a:ext cx="4670280" cy="13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2"/>
          <p:cNvSpPr txBox="1"/>
          <p:nvPr/>
        </p:nvSpPr>
        <p:spPr>
          <a:xfrm>
            <a:off x="2743200" y="6094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КИСЛИТЕЛ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3063960"/>
            <a:ext cx="3122640" cy="390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3112920" y="3106800"/>
            <a:ext cx="30672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53352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76212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ЮЧЕ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ЕЩЕСТВО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6199200" y="3137040"/>
            <a:ext cx="3024000" cy="3779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5257800" y="464832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5486400" y="4876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СТОЧ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ЗАГОРА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" name="WordArt 10"/>
          <p:cNvSpPr txBox="1"/>
          <p:nvPr/>
        </p:nvSpPr>
        <p:spPr>
          <a:xfrm>
            <a:off x="1981080" y="25146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РЕНИЕ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674640" y="4300560"/>
            <a:ext cx="2906640" cy="216684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744480" y="4386240"/>
            <a:ext cx="2984400" cy="209088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17</cp:lastModifiedBy>
  <dcterms:modified xsi:type="dcterms:W3CDTF">2012-02-10T06:45:49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