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6.jpeg" ContentType="image/jpeg"/>
  <Override PartName="/ppt/media/image60.png" ContentType="image/png"/>
  <Override PartName="/ppt/media/image50.png" ContentType="image/png"/>
  <Override PartName="/ppt/media/image26.jpeg" ContentType="image/jpeg"/>
  <Override PartName="/ppt/media/image42.png" ContentType="image/png"/>
  <Override PartName="/ppt/media/image40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23.jpeg" ContentType="image/jpeg"/>
  <Override PartName="/ppt/media/image2.jpeg" ContentType="image/jpeg"/>
  <Override PartName="/ppt/media/image52.png" ContentType="image/png"/>
  <Override PartName="/ppt/media/image24.jpeg" ContentType="image/jpeg"/>
  <Override PartName="/ppt/media/image59.png" ContentType="image/png"/>
  <Override PartName="/ppt/media/image5.jpeg" ContentType="image/jpeg"/>
  <Override PartName="/ppt/media/image61.png" ContentType="image/png"/>
  <Override PartName="/ppt/media/image1.png" ContentType="image/png"/>
  <Override PartName="/ppt/media/image64.png" ContentType="image/png"/>
  <Override PartName="/ppt/media/image15.jpeg" ContentType="image/jpeg"/>
  <Override PartName="/ppt/media/image25.jpeg" ContentType="image/jpeg"/>
  <Override PartName="/ppt/media/image62.png" ContentType="image/png"/>
  <Override PartName="/ppt/media/image39.png" ContentType="image/png"/>
  <Override PartName="/ppt/media/image22.jpeg" ContentType="image/jpeg"/>
  <Override PartName="/ppt/media/image17.jpeg" ContentType="image/jpeg"/>
  <Override PartName="/ppt/media/image65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54.png" ContentType="image/png"/>
  <Override PartName="/ppt/media/image16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44.png" ContentType="image/png"/>
  <Override PartName="/ppt/media/image28.jpeg" ContentType="image/jpeg"/>
  <Override PartName="/ppt/media/image11.jpeg" ContentType="image/jpeg"/>
  <Override PartName="/ppt/media/image48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5.png" ContentType="image/png"/>
  <Override PartName="/ppt/media/image46.png" ContentType="image/png"/>
  <Override PartName="/ppt/media/image4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38D-837D-443C-9809-DD456121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575-4753-43A7-A3EE-7496AFD4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E2D-C85B-43DC-81D0-97A8E90E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31D-E548-4358-82A3-3C607F65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075-81D1-4607-B9B0-655A93E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022-4D97-4745-A660-FD0BAB7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EA4-AAFD-494C-8DEB-05DFC631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60A-61D2-49D3-8E17-9B24D218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80E-CAEF-49DD-A62E-19656CE9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8AB-D923-476F-AAF1-2ED4C4A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F3C-3702-43DD-BA17-DE4AAD2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C5F-65F3-4CDF-9DED-E4523A5B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rmAutofit/>
          </a:bodyPr>
          <a:p>
            <a:pPr marL="249120" indent="-249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208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3340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6676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0012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0012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0012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4703-64EF-4755-8EB8-2841DE4530A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0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image" Target="../media/image50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2444760" y="1536840"/>
            <a:ext cx="4894200" cy="2846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32160" y="52293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в Валерий Валентинович, учитель ОБЖ МОУ «Красногород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лайд26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b08aebade2115808efe72fe2135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2" descr=""/>
          <p:cNvPicPr/>
          <p:nvPr/>
        </p:nvPicPr>
        <p:blipFill>
          <a:blip r:embed="rId2"/>
          <a:stretch/>
        </p:blipFill>
        <p:spPr>
          <a:xfrm>
            <a:off x="1511280" y="1006560"/>
            <a:ext cx="74199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Слайд2(2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12600" y="-60480"/>
            <a:ext cx="990576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Слайд3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6360" y="-47520"/>
            <a:ext cx="99061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Слайд5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Слайд6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2600" y="-6480"/>
            <a:ext cx="99061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Слайд8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74520"/>
            <a:ext cx="990612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Слайд11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25560" y="-95400"/>
            <a:ext cx="99061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Слайд12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лайд13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ffff"/>
            </a:gs>
            <a:gs pos="100000">
              <a:srgbClr val="afeee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basaev24yx3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737240" y="1197000"/>
            <a:ext cx="4952880" cy="3344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explosion2.jp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11240" y="41400"/>
            <a:ext cx="5730840" cy="2955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385D8448-328F-4586-AA3F-982206F089CD_mw800_mh600.jp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200160" y="3068640"/>
            <a:ext cx="60055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Слайд14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128520"/>
            <a:ext cx="990612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лайд15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Слайд16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Слайд18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201600"/>
            <a:ext cx="990612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Слайд19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136440"/>
            <a:ext cx="99061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Слайд20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108000"/>
            <a:ext cx="99061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Слайд21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237960"/>
            <a:ext cx="990612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Слайд22(1)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190440"/>
            <a:ext cx="990612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Слайд23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98360" y="47520"/>
            <a:ext cx="95090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b"/>
                </a:solidFill>
                <a:latin typeface="Tahoma - 32"/>
              </a:rPr>
              <a:t>Переч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b"/>
                </a:solidFill>
                <a:latin typeface="Tahoma - 32"/>
              </a:rPr>
              <a:t>э</a:t>
            </a:r>
            <a:r>
              <a:rPr b="1" lang="ru-RU" sz="1600" spc="-1" strike="noStrike">
                <a:solidFill>
                  <a:srgbClr val="00008b"/>
                </a:solidFill>
                <a:latin typeface="Tahoma - 24"/>
              </a:rPr>
              <a:t>кстремистских, террористических и неправительственных организаций и фондов, деятельность которых наносит ущерб безопасности Российской Федер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b"/>
                </a:solidFill>
                <a:latin typeface="Tahoma - 24"/>
              </a:rPr>
              <a:t>В</a:t>
            </a:r>
            <a:r>
              <a:rPr b="0" lang="ru-RU" sz="1600" spc="-1" strike="noStrike">
                <a:solidFill>
                  <a:srgbClr val="00008b"/>
                </a:solidFill>
                <a:latin typeface="Tahoma - 18"/>
              </a:rPr>
              <a:t> современной России действуют более 15 крупных террористических организ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18"/>
              </a:rPr>
              <a:t>"</a:t>
            </a: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Высший военный Маджлисуль Шура Объединенных сил моджахедов Кавказа "(Чечн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Хизбут-Тахрир " (Московская область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Бирлик " (Ставропольский край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Тайба " (Татарстан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Конгресс народов Ичкерии и Дагестана" (Чечн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 База" ("Аль-Кайда", Афганистан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Асбат аль-Ансар" (Ливан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Священная война" ("Аль-Джихад", "Holy War", Египе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Исламская группа" ("Аль-Гамаа аль-Исламия", Египе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Братья-мусульмане" ("Аль-Ихван аль-Муслимун", "Muslim Brotherhood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международна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Партия исламского освобождения" ("Хизб ут-Тахрир аль-Ислами", "Islam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Tahoma - 21"/>
              </a:rPr>
              <a:t>Salvation Party", </a:t>
            </a: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международна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Лашкар-и-Тайба" (Пакистан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Исламская группа" ("Джамаат-и-Ислами", Пакистан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Движение Талибан" (Афганистан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Исламская партия Туркестана" (бывшая "Исламское движение Узбеки</a:t>
            </a:r>
            <a:r>
              <a:rPr b="0" lang="ru-RU" sz="1600" spc="-1" strike="noStrike">
                <a:solidFill>
                  <a:srgbClr val="ffffff"/>
                </a:solidFill>
                <a:latin typeface="Tahoma - 21"/>
              </a:rPr>
              <a:t>ст</a:t>
            </a: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а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Общество социальных реформ" ("Джамият аль-Ислах аль-Иджти-маи", "So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Tahoma - 21"/>
              </a:rPr>
              <a:t>Reform Society", </a:t>
            </a: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Кувей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Общество возрождения исламского наследия" ("Джамият Ихья ат-Тураз аль-Ислами", </a:t>
            </a:r>
            <a:r>
              <a:rPr b="0" lang="en-US" sz="1600" spc="-1" strike="noStrike">
                <a:solidFill>
                  <a:srgbClr val="00008b"/>
                </a:solidFill>
                <a:latin typeface="Tahoma - 21"/>
              </a:rPr>
              <a:t>"Islamic Heritage Revival Society", Кувей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b"/>
                </a:solidFill>
                <a:latin typeface="Tahoma - 21"/>
              </a:rPr>
              <a:t>"Дом двух святынь" ("Аль-Харамейн", Саудовская Ара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kavkaz-2002_670x503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989600" y="101520"/>
            <a:ext cx="4773600" cy="3111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o_390856.jp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5960" y="685800"/>
            <a:ext cx="5372280" cy="3463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147814175.jp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2000160" y="2997360"/>
            <a:ext cx="59007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18"/>
          <p:cNvGrpSpPr/>
          <p:nvPr/>
        </p:nvGrpSpPr>
        <p:grpSpPr>
          <a:xfrm>
            <a:off x="-61920" y="0"/>
            <a:ext cx="9968040" cy="6858000"/>
            <a:chOff x="-61920" y="0"/>
            <a:chExt cx="9968040" cy="6858000"/>
          </a:xfrm>
        </p:grpSpPr>
        <p:sp>
          <p:nvSpPr>
            <p:cNvPr id="77" name="Полилиния 1"/>
            <p:cNvSpPr/>
            <p:nvPr/>
          </p:nvSpPr>
          <p:spPr>
            <a:xfrm>
              <a:off x="4897440" y="0"/>
              <a:ext cx="4973760" cy="3693960"/>
            </a:xfrm>
            <a:custGeom>
              <a:avLst/>
              <a:gdLst>
                <a:gd name="textAreaLeft" fmla="*/ 0 w 4973760"/>
                <a:gd name="textAreaRight" fmla="*/ 4974120 w 4973760"/>
                <a:gd name="textAreaTop" fmla="*/ 0 h 3693960"/>
                <a:gd name="textAreaBottom" fmla="*/ 3694320 h 3693960"/>
              </a:gdLst>
              <a:ahLst/>
              <a:rect l="textAreaLeft" t="textAreaTop" r="textAreaRight" b="textAreaBottom"/>
              <a:pathLst>
                <a:path w="5100320" h="5100321">
                  <a:moveTo>
                    <a:pt x="0" y="0"/>
                  </a:moveTo>
                  <a:lnTo>
                    <a:pt x="5100319" y="0"/>
                  </a:lnTo>
                  <a:lnTo>
                    <a:pt x="5100319" y="5100320"/>
                  </a:lnTo>
                  <a:lnTo>
                    <a:pt x="0" y="5100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олилиния 2"/>
            <p:cNvSpPr/>
            <p:nvPr/>
          </p:nvSpPr>
          <p:spPr>
            <a:xfrm>
              <a:off x="4916520" y="3087720"/>
              <a:ext cx="4971960" cy="3770280"/>
            </a:xfrm>
            <a:custGeom>
              <a:avLst/>
              <a:gdLst>
                <a:gd name="textAreaLeft" fmla="*/ 0 w 4971960"/>
                <a:gd name="textAreaRight" fmla="*/ 4972320 w 4971960"/>
                <a:gd name="textAreaTop" fmla="*/ 0 h 3770280"/>
                <a:gd name="textAreaBottom" fmla="*/ 3770640 h 3770280"/>
              </a:gdLst>
              <a:ahLst/>
              <a:rect l="textAreaLeft" t="textAreaTop" r="textAreaRight" b="textAreaBottom"/>
              <a:pathLst>
                <a:path w="5100320" h="5100320">
                  <a:moveTo>
                    <a:pt x="0" y="0"/>
                  </a:moveTo>
                  <a:lnTo>
                    <a:pt x="5100319" y="0"/>
                  </a:lnTo>
                  <a:lnTo>
                    <a:pt x="5100319" y="5100319"/>
                  </a:lnTo>
                  <a:lnTo>
                    <a:pt x="0" y="5100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d4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олилиния 3"/>
            <p:cNvSpPr/>
            <p:nvPr/>
          </p:nvSpPr>
          <p:spPr>
            <a:xfrm>
              <a:off x="-61920" y="3078000"/>
              <a:ext cx="4978440" cy="3773520"/>
            </a:xfrm>
            <a:custGeom>
              <a:avLst/>
              <a:gdLst>
                <a:gd name="textAreaLeft" fmla="*/ 0 w 4978440"/>
                <a:gd name="textAreaRight" fmla="*/ 4978800 w 4978440"/>
                <a:gd name="textAreaTop" fmla="*/ 0 h 3773520"/>
                <a:gd name="textAreaBottom" fmla="*/ 3773880 h 3773520"/>
              </a:gdLst>
              <a:ahLst/>
              <a:rect l="textAreaLeft" t="textAreaTop" r="textAreaRight" b="textAreaBottom"/>
              <a:pathLst>
                <a:path w="5105401" h="5105401">
                  <a:moveTo>
                    <a:pt x="0" y="0"/>
                  </a:moveTo>
                  <a:lnTo>
                    <a:pt x="5105400" y="0"/>
                  </a:lnTo>
                  <a:lnTo>
                    <a:pt x="5105400" y="5105400"/>
                  </a:lnTo>
                  <a:lnTo>
                    <a:pt x="0" y="5105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олилиния 4"/>
            <p:cNvSpPr/>
            <p:nvPr/>
          </p:nvSpPr>
          <p:spPr>
            <a:xfrm>
              <a:off x="-48960" y="0"/>
              <a:ext cx="4977000" cy="3087720"/>
            </a:xfrm>
            <a:custGeom>
              <a:avLst/>
              <a:gdLst>
                <a:gd name="textAreaLeft" fmla="*/ 0 w 4977000"/>
                <a:gd name="textAreaRight" fmla="*/ 4977360 w 4977000"/>
                <a:gd name="textAreaTop" fmla="*/ 0 h 3087720"/>
                <a:gd name="textAreaBottom" fmla="*/ 3088080 h 3087720"/>
              </a:gdLst>
              <a:ahLst/>
              <a:rect l="textAreaLeft" t="textAreaTop" r="textAreaRight" b="textAreaBottom"/>
              <a:pathLst>
                <a:path w="5105401" h="5105401">
                  <a:moveTo>
                    <a:pt x="0" y="0"/>
                  </a:moveTo>
                  <a:lnTo>
                    <a:pt x="5105400" y="0"/>
                  </a:lnTo>
                  <a:lnTo>
                    <a:pt x="5105400" y="5105400"/>
                  </a:lnTo>
                  <a:lnTo>
                    <a:pt x="0" y="5105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Группа 17"/>
            <p:cNvGrpSpPr/>
            <p:nvPr/>
          </p:nvGrpSpPr>
          <p:grpSpPr>
            <a:xfrm>
              <a:off x="11880" y="289800"/>
              <a:ext cx="9894240" cy="5661000"/>
              <a:chOff x="11880" y="289800"/>
              <a:chExt cx="9894240" cy="5661000"/>
            </a:xfrm>
          </p:grpSpPr>
          <p:grpSp>
            <p:nvGrpSpPr>
              <p:cNvPr id="82" name="Группа 12"/>
              <p:cNvGrpSpPr/>
              <p:nvPr/>
            </p:nvGrpSpPr>
            <p:grpSpPr>
              <a:xfrm>
                <a:off x="2996280" y="1650960"/>
                <a:ext cx="3831120" cy="2885040"/>
                <a:chOff x="2996280" y="1650960"/>
                <a:chExt cx="3831120" cy="2885040"/>
              </a:xfrm>
            </p:grpSpPr>
            <p:sp>
              <p:nvSpPr>
                <p:cNvPr id="83" name="Овал 5"/>
                <p:cNvSpPr/>
                <p:nvPr/>
              </p:nvSpPr>
              <p:spPr>
                <a:xfrm>
                  <a:off x="3027960" y="1657080"/>
                  <a:ext cx="3799440" cy="2878920"/>
                </a:xfrm>
                <a:prstGeom prst="ellipse">
                  <a:avLst/>
                </a:prstGeom>
                <a:solidFill>
                  <a:srgbClr val="4f81bd">
                    <a:alpha val="1000"/>
                  </a:srgbClr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Прямая соединительная линия 6"/>
                <p:cNvSpPr/>
                <p:nvPr/>
              </p:nvSpPr>
              <p:spPr>
                <a:xfrm>
                  <a:off x="4928400" y="1650960"/>
                  <a:ext cx="0" cy="28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Прямая соединительная линия 7"/>
                <p:cNvSpPr/>
                <p:nvPr/>
              </p:nvSpPr>
              <p:spPr>
                <a:xfrm>
                  <a:off x="2996280" y="3087000"/>
                  <a:ext cx="382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Box 8"/>
                <p:cNvSpPr/>
                <p:nvPr/>
              </p:nvSpPr>
              <p:spPr>
                <a:xfrm>
                  <a:off x="3391920" y="2280240"/>
                  <a:ext cx="13870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о отношению к террористам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Box 9"/>
                <p:cNvSpPr/>
                <p:nvPr/>
              </p:nvSpPr>
              <p:spPr>
                <a:xfrm>
                  <a:off x="5088600" y="2242800"/>
                  <a:ext cx="13870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о отношению к заложникам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Box 10"/>
                <p:cNvSpPr/>
                <p:nvPr/>
              </p:nvSpPr>
              <p:spPr>
                <a:xfrm>
                  <a:off x="3416400" y="3396960"/>
                  <a:ext cx="138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ри применении газ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Box 11"/>
                <p:cNvSpPr/>
                <p:nvPr/>
              </p:nvSpPr>
              <p:spPr>
                <a:xfrm>
                  <a:off x="5051520" y="3425400"/>
                  <a:ext cx="138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ри штурме спецназ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Прямая соединительная линия 13"/>
              <p:cNvSpPr/>
              <p:nvPr/>
            </p:nvSpPr>
            <p:spPr>
              <a:xfrm>
                <a:off x="6784920" y="3077640"/>
                <a:ext cx="3121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Прямая соединительная линия 14"/>
              <p:cNvSpPr/>
              <p:nvPr/>
            </p:nvSpPr>
            <p:spPr>
              <a:xfrm flipH="1">
                <a:off x="11880" y="307764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ая соединительная линия 15"/>
              <p:cNvSpPr/>
              <p:nvPr/>
            </p:nvSpPr>
            <p:spPr>
              <a:xfrm flipV="1">
                <a:off x="4916160" y="289800"/>
                <a:ext cx="0" cy="136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Прямая соединительная линия 16"/>
              <p:cNvSpPr/>
              <p:nvPr/>
            </p:nvSpPr>
            <p:spPr>
              <a:xfrm>
                <a:off x="4916160" y="4514400"/>
                <a:ext cx="0" cy="143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" name="Рисунок 19" descr="MSOfficePNG(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012000" y="5229360"/>
            <a:ext cx="3894120" cy="2952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0" descr="MSOfficePNG(4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04040" y="2205000"/>
            <a:ext cx="260208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1" descr="MSOfficePNG(6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2708280"/>
            <a:ext cx="3049560" cy="289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2" descr="MSOfficePNG(7)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6715080" y="2565360"/>
            <a:ext cx="3191040" cy="292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3" descr="MSOfficePNG(9).png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3368520" y="6021360"/>
            <a:ext cx="3875400" cy="301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4" descr="MSOfficePNG(10).png"/>
          <p:cNvPicPr/>
          <p:nvPr/>
        </p:nvPicPr>
        <p:blipFill>
          <a:blip r:embed="rId6">
            <a:alphaModFix amt="0"/>
          </a:blip>
          <a:stretch/>
        </p:blipFill>
        <p:spPr>
          <a:xfrm>
            <a:off x="185760" y="325440"/>
            <a:ext cx="4498920" cy="344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5" descr="MSOfficePNG(11).png"/>
          <p:cNvPicPr/>
          <p:nvPr/>
        </p:nvPicPr>
        <p:blipFill>
          <a:blip r:embed="rId7">
            <a:alphaModFix amt="0"/>
          </a:blip>
          <a:stretch/>
        </p:blipFill>
        <p:spPr>
          <a:xfrm>
            <a:off x="415800" y="3573360"/>
            <a:ext cx="2271960" cy="362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6" descr="MSOfficePNG(12).png"/>
          <p:cNvPicPr/>
          <p:nvPr/>
        </p:nvPicPr>
        <p:blipFill>
          <a:blip r:embed="rId8">
            <a:alphaModFix amt="0"/>
          </a:blip>
          <a:stretch/>
        </p:blipFill>
        <p:spPr>
          <a:xfrm>
            <a:off x="7048440" y="3357720"/>
            <a:ext cx="2857680" cy="330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7" descr="MSOfficePNG(13).png"/>
          <p:cNvPicPr/>
          <p:nvPr/>
        </p:nvPicPr>
        <p:blipFill>
          <a:blip r:embed="rId9">
            <a:alphaModFix amt="0"/>
          </a:blip>
          <a:stretch/>
        </p:blipFill>
        <p:spPr>
          <a:xfrm>
            <a:off x="344520" y="4437000"/>
            <a:ext cx="2766960" cy="3524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8" descr="MSOfficePNG(14).png"/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5064120" y="414360"/>
            <a:ext cx="4775040" cy="350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9" descr="MSOfficePNG(15).png"/>
          <p:cNvPicPr/>
          <p:nvPr/>
        </p:nvPicPr>
        <p:blipFill>
          <a:blip r:embed="rId11">
            <a:alphaModFix amt="0"/>
          </a:blip>
          <a:stretch/>
        </p:blipFill>
        <p:spPr>
          <a:xfrm>
            <a:off x="6067440" y="712800"/>
            <a:ext cx="3043080" cy="368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0" descr="MSOfficePNG(16).png"/>
          <p:cNvPicPr/>
          <p:nvPr/>
        </p:nvPicPr>
        <p:blipFill>
          <a:blip r:embed="rId12">
            <a:alphaModFix amt="0"/>
          </a:blip>
          <a:stretch/>
        </p:blipFill>
        <p:spPr>
          <a:xfrm>
            <a:off x="123840" y="658800"/>
            <a:ext cx="2992320" cy="331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1" descr="MSOfficePNG(17).png"/>
          <p:cNvPicPr/>
          <p:nvPr/>
        </p:nvPicPr>
        <p:blipFill>
          <a:blip r:embed="rId13">
            <a:alphaModFix amt="0"/>
          </a:blip>
          <a:stretch/>
        </p:blipFill>
        <p:spPr>
          <a:xfrm>
            <a:off x="344520" y="5589720"/>
            <a:ext cx="4329000" cy="341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2" descr="MSOfficePNG(18).png"/>
          <p:cNvPicPr/>
          <p:nvPr/>
        </p:nvPicPr>
        <p:blipFill>
          <a:blip r:embed="rId14">
            <a:alphaModFix amt="0"/>
          </a:blip>
          <a:stretch/>
        </p:blipFill>
        <p:spPr>
          <a:xfrm>
            <a:off x="0" y="5877000"/>
            <a:ext cx="2701800" cy="372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3" descr="MSOfficePNG(19).png"/>
          <p:cNvPicPr/>
          <p:nvPr/>
        </p:nvPicPr>
        <p:blipFill>
          <a:blip r:embed="rId15">
            <a:alphaModFix amt="0"/>
          </a:blip>
          <a:stretch/>
        </p:blipFill>
        <p:spPr>
          <a:xfrm>
            <a:off x="222120" y="1046160"/>
            <a:ext cx="260028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4" descr="MSOfficePNG(20).png"/>
          <p:cNvPicPr/>
          <p:nvPr/>
        </p:nvPicPr>
        <p:blipFill>
          <a:blip r:embed="rId16">
            <a:alphaModFix amt="0"/>
          </a:blip>
          <a:stretch/>
        </p:blipFill>
        <p:spPr>
          <a:xfrm>
            <a:off x="7385040" y="1197000"/>
            <a:ext cx="2521080" cy="331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5" descr="MSOfficePNG(21).png"/>
          <p:cNvPicPr/>
          <p:nvPr/>
        </p:nvPicPr>
        <p:blipFill>
          <a:blip r:embed="rId17">
            <a:alphaModFix amt="0"/>
          </a:blip>
          <a:stretch/>
        </p:blipFill>
        <p:spPr>
          <a:xfrm>
            <a:off x="3182760" y="923760"/>
            <a:ext cx="2986200" cy="3542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6" descr="MSOfficePNG(22).png"/>
          <p:cNvPicPr/>
          <p:nvPr/>
        </p:nvPicPr>
        <p:blipFill>
          <a:blip r:embed="rId18">
            <a:alphaModFix amt="0"/>
          </a:blip>
          <a:stretch/>
        </p:blipFill>
        <p:spPr>
          <a:xfrm>
            <a:off x="6465960" y="1557360"/>
            <a:ext cx="2635200" cy="357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7" descr="MSOfficePNG(23).png"/>
          <p:cNvPicPr/>
          <p:nvPr/>
        </p:nvPicPr>
        <p:blipFill>
          <a:blip r:embed="rId19">
            <a:alphaModFix amt="0"/>
          </a:blip>
          <a:stretch/>
        </p:blipFill>
        <p:spPr>
          <a:xfrm>
            <a:off x="5384880" y="3933720"/>
            <a:ext cx="4298760" cy="3733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8" descr="MSOfficePNG(21).png"/>
          <p:cNvPicPr/>
          <p:nvPr/>
        </p:nvPicPr>
        <p:blipFill>
          <a:blip r:embed="rId20">
            <a:alphaModFix amt="0"/>
          </a:blip>
          <a:stretch/>
        </p:blipFill>
        <p:spPr>
          <a:xfrm>
            <a:off x="5097600" y="4437000"/>
            <a:ext cx="3017880" cy="358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9" descr="MSOfficePNG(25).png"/>
          <p:cNvPicPr/>
          <p:nvPr/>
        </p:nvPicPr>
        <p:blipFill>
          <a:blip r:embed="rId21">
            <a:alphaModFix amt="0"/>
          </a:blip>
          <a:stretch/>
        </p:blipFill>
        <p:spPr>
          <a:xfrm>
            <a:off x="0" y="1773360"/>
            <a:ext cx="3500280" cy="5461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0" descr="MSOfficePNG(26).png"/>
          <p:cNvPicPr/>
          <p:nvPr/>
        </p:nvPicPr>
        <p:blipFill>
          <a:blip r:embed="rId22">
            <a:alphaModFix amt="0"/>
          </a:blip>
          <a:stretch/>
        </p:blipFill>
        <p:spPr>
          <a:xfrm>
            <a:off x="992160" y="5084640"/>
            <a:ext cx="2100240" cy="370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1" descr="MSOfficePNG(27).png"/>
          <p:cNvPicPr/>
          <p:nvPr/>
        </p:nvPicPr>
        <p:blipFill>
          <a:blip r:embed="rId23">
            <a:alphaModFix amt="0"/>
          </a:blip>
          <a:stretch/>
        </p:blipFill>
        <p:spPr>
          <a:xfrm>
            <a:off x="334800" y="33480"/>
            <a:ext cx="4302360" cy="342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2" descr="MSOfficePNG(28).png"/>
          <p:cNvPicPr/>
          <p:nvPr/>
        </p:nvPicPr>
        <p:blipFill>
          <a:blip r:embed="rId24">
            <a:alphaModFix amt="0"/>
          </a:blip>
          <a:stretch/>
        </p:blipFill>
        <p:spPr>
          <a:xfrm>
            <a:off x="5361120" y="54000"/>
            <a:ext cx="39938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Группа 18"/>
          <p:cNvGrpSpPr/>
          <p:nvPr/>
        </p:nvGrpSpPr>
        <p:grpSpPr>
          <a:xfrm>
            <a:off x="-61920" y="0"/>
            <a:ext cx="9968040" cy="6858000"/>
            <a:chOff x="-61920" y="0"/>
            <a:chExt cx="9968040" cy="6858000"/>
          </a:xfrm>
        </p:grpSpPr>
        <p:sp>
          <p:nvSpPr>
            <p:cNvPr id="119" name="Полилиния 1"/>
            <p:cNvSpPr/>
            <p:nvPr/>
          </p:nvSpPr>
          <p:spPr>
            <a:xfrm>
              <a:off x="4932360" y="14040"/>
              <a:ext cx="4973760" cy="3427560"/>
            </a:xfrm>
            <a:custGeom>
              <a:avLst/>
              <a:gdLst>
                <a:gd name="textAreaLeft" fmla="*/ 0 w 4973760"/>
                <a:gd name="textAreaRight" fmla="*/ 4974120 w 4973760"/>
                <a:gd name="textAreaTop" fmla="*/ 0 h 3427560"/>
                <a:gd name="textAreaBottom" fmla="*/ 3427920 h 3427560"/>
              </a:gdLst>
              <a:ahLst/>
              <a:rect l="textAreaLeft" t="textAreaTop" r="textAreaRight" b="textAreaBottom"/>
              <a:pathLst>
                <a:path w="5100320" h="5100321">
                  <a:moveTo>
                    <a:pt x="0" y="0"/>
                  </a:moveTo>
                  <a:lnTo>
                    <a:pt x="5100319" y="0"/>
                  </a:lnTo>
                  <a:lnTo>
                    <a:pt x="5100319" y="5100320"/>
                  </a:lnTo>
                  <a:lnTo>
                    <a:pt x="0" y="5100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олилиния 2"/>
            <p:cNvSpPr/>
            <p:nvPr/>
          </p:nvSpPr>
          <p:spPr>
            <a:xfrm>
              <a:off x="4916520" y="3430440"/>
              <a:ext cx="4971960" cy="3427560"/>
            </a:xfrm>
            <a:custGeom>
              <a:avLst/>
              <a:gdLst>
                <a:gd name="textAreaLeft" fmla="*/ 0 w 4971960"/>
                <a:gd name="textAreaRight" fmla="*/ 4972320 w 4971960"/>
                <a:gd name="textAreaTop" fmla="*/ 0 h 3427560"/>
                <a:gd name="textAreaBottom" fmla="*/ 3427920 h 3427560"/>
              </a:gdLst>
              <a:ahLst/>
              <a:rect l="textAreaLeft" t="textAreaTop" r="textAreaRight" b="textAreaBottom"/>
              <a:pathLst>
                <a:path w="5100320" h="5100320">
                  <a:moveTo>
                    <a:pt x="0" y="0"/>
                  </a:moveTo>
                  <a:lnTo>
                    <a:pt x="5100319" y="0"/>
                  </a:lnTo>
                  <a:lnTo>
                    <a:pt x="5100319" y="5100319"/>
                  </a:lnTo>
                  <a:lnTo>
                    <a:pt x="0" y="5100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d4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олилиния 3"/>
            <p:cNvSpPr/>
            <p:nvPr/>
          </p:nvSpPr>
          <p:spPr>
            <a:xfrm>
              <a:off x="-61920" y="3422520"/>
              <a:ext cx="4978440" cy="3430440"/>
            </a:xfrm>
            <a:custGeom>
              <a:avLst/>
              <a:gdLst>
                <a:gd name="textAreaLeft" fmla="*/ 0 w 4978440"/>
                <a:gd name="textAreaRight" fmla="*/ 4978800 w 4978440"/>
                <a:gd name="textAreaTop" fmla="*/ 0 h 3430440"/>
                <a:gd name="textAreaBottom" fmla="*/ 3430800 h 3430440"/>
              </a:gdLst>
              <a:ahLst/>
              <a:rect l="textAreaLeft" t="textAreaTop" r="textAreaRight" b="textAreaBottom"/>
              <a:pathLst>
                <a:path w="5105401" h="5105401">
                  <a:moveTo>
                    <a:pt x="0" y="0"/>
                  </a:moveTo>
                  <a:lnTo>
                    <a:pt x="5105400" y="0"/>
                  </a:lnTo>
                  <a:lnTo>
                    <a:pt x="5105400" y="5105400"/>
                  </a:lnTo>
                  <a:lnTo>
                    <a:pt x="0" y="5105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олилиния 4"/>
            <p:cNvSpPr/>
            <p:nvPr/>
          </p:nvSpPr>
          <p:spPr>
            <a:xfrm>
              <a:off x="-48960" y="0"/>
              <a:ext cx="4977000" cy="3430440"/>
            </a:xfrm>
            <a:custGeom>
              <a:avLst/>
              <a:gdLst>
                <a:gd name="textAreaLeft" fmla="*/ 0 w 4977000"/>
                <a:gd name="textAreaRight" fmla="*/ 4977360 w 4977000"/>
                <a:gd name="textAreaTop" fmla="*/ 0 h 3430440"/>
                <a:gd name="textAreaBottom" fmla="*/ 3430800 h 3430440"/>
              </a:gdLst>
              <a:ahLst/>
              <a:rect l="textAreaLeft" t="textAreaTop" r="textAreaRight" b="textAreaBottom"/>
              <a:pathLst>
                <a:path w="5105401" h="5105401">
                  <a:moveTo>
                    <a:pt x="0" y="0"/>
                  </a:moveTo>
                  <a:lnTo>
                    <a:pt x="5105400" y="0"/>
                  </a:lnTo>
                  <a:lnTo>
                    <a:pt x="5105400" y="5105400"/>
                  </a:lnTo>
                  <a:lnTo>
                    <a:pt x="0" y="5105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Группа 17"/>
            <p:cNvGrpSpPr/>
            <p:nvPr/>
          </p:nvGrpSpPr>
          <p:grpSpPr>
            <a:xfrm>
              <a:off x="11880" y="887040"/>
              <a:ext cx="9894240" cy="5146200"/>
              <a:chOff x="11880" y="887040"/>
              <a:chExt cx="9894240" cy="5146200"/>
            </a:xfrm>
          </p:grpSpPr>
          <p:grpSp>
            <p:nvGrpSpPr>
              <p:cNvPr id="124" name="Группа 12"/>
              <p:cNvGrpSpPr/>
              <p:nvPr/>
            </p:nvGrpSpPr>
            <p:grpSpPr>
              <a:xfrm>
                <a:off x="2996280" y="2124720"/>
                <a:ext cx="3831120" cy="2622600"/>
                <a:chOff x="2996280" y="2124720"/>
                <a:chExt cx="3831120" cy="2622600"/>
              </a:xfrm>
            </p:grpSpPr>
            <p:sp>
              <p:nvSpPr>
                <p:cNvPr id="125" name="Овал 5"/>
                <p:cNvSpPr/>
                <p:nvPr/>
              </p:nvSpPr>
              <p:spPr>
                <a:xfrm>
                  <a:off x="3027960" y="2129400"/>
                  <a:ext cx="3799440" cy="2617920"/>
                </a:xfrm>
                <a:prstGeom prst="ellipse">
                  <a:avLst/>
                </a:prstGeom>
                <a:solidFill>
                  <a:srgbClr val="4f81bd">
                    <a:alpha val="1000"/>
                  </a:srgbClr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Прямая соединительная линия 6"/>
                <p:cNvSpPr/>
                <p:nvPr/>
              </p:nvSpPr>
              <p:spPr>
                <a:xfrm>
                  <a:off x="4928400" y="2124720"/>
                  <a:ext cx="0" cy="261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Прямая соединительная линия 7"/>
                <p:cNvSpPr/>
                <p:nvPr/>
              </p:nvSpPr>
              <p:spPr>
                <a:xfrm>
                  <a:off x="2996280" y="3429720"/>
                  <a:ext cx="382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Box 8"/>
                <p:cNvSpPr/>
                <p:nvPr/>
              </p:nvSpPr>
              <p:spPr>
                <a:xfrm>
                  <a:off x="3391920" y="2695680"/>
                  <a:ext cx="13870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о отношению к террористам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9"/>
                <p:cNvSpPr/>
                <p:nvPr/>
              </p:nvSpPr>
              <p:spPr>
                <a:xfrm>
                  <a:off x="5088600" y="2661480"/>
                  <a:ext cx="13870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о отношению к заложникам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10"/>
                <p:cNvSpPr/>
                <p:nvPr/>
              </p:nvSpPr>
              <p:spPr>
                <a:xfrm>
                  <a:off x="3416400" y="3711600"/>
                  <a:ext cx="138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ри применении газ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11"/>
                <p:cNvSpPr/>
                <p:nvPr/>
              </p:nvSpPr>
              <p:spPr>
                <a:xfrm>
                  <a:off x="5051520" y="3737160"/>
                  <a:ext cx="138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 - 16"/>
                    </a:rPr>
                    <a:t>Действия при штурме спецназ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Прямая соединительная линия 13"/>
              <p:cNvSpPr/>
              <p:nvPr/>
            </p:nvSpPr>
            <p:spPr>
              <a:xfrm>
                <a:off x="6784920" y="3422160"/>
                <a:ext cx="3121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Прямая соединительная линия 14"/>
              <p:cNvSpPr/>
              <p:nvPr/>
            </p:nvSpPr>
            <p:spPr>
              <a:xfrm flipH="1">
                <a:off x="11880" y="34221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Прямая соединительная линия 15"/>
              <p:cNvSpPr/>
              <p:nvPr/>
            </p:nvSpPr>
            <p:spPr>
              <a:xfrm flipV="1">
                <a:off x="4916160" y="887040"/>
                <a:ext cx="0" cy="123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Прямая соединительная линия 16"/>
              <p:cNvSpPr/>
              <p:nvPr/>
            </p:nvSpPr>
            <p:spPr>
              <a:xfrm>
                <a:off x="4916160" y="4727160"/>
                <a:ext cx="0" cy="13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Группа 42"/>
          <p:cNvGrpSpPr/>
          <p:nvPr/>
        </p:nvGrpSpPr>
        <p:grpSpPr>
          <a:xfrm>
            <a:off x="-74520" y="1022400"/>
            <a:ext cx="9913680" cy="5311800"/>
            <a:chOff x="-74520" y="1022400"/>
            <a:chExt cx="9913680" cy="5311800"/>
          </a:xfrm>
        </p:grpSpPr>
        <p:pic>
          <p:nvPicPr>
            <p:cNvPr id="137" name="Рисунок 19" descr="MSOfficePNG(3).png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-49680" y="1978200"/>
              <a:ext cx="4359240" cy="3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Рисунок 20" descr="MSOfficePNG(4).png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>
              <a:off x="-74520" y="2643840"/>
              <a:ext cx="28926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Рисунок 21" descr="MSOfficePNG(6).png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-61920" y="3019320"/>
              <a:ext cx="3500640" cy="3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Рисунок 22" descr="MSOfficePNG(7).png"/>
            <p:cNvPicPr/>
            <p:nvPr/>
          </p:nvPicPr>
          <p:blipFill>
            <a:blip r:embed="rId4">
              <a:alphaModFix amt="0"/>
            </a:blip>
            <a:stretch/>
          </p:blipFill>
          <p:spPr>
            <a:xfrm>
              <a:off x="-49680" y="1636920"/>
              <a:ext cx="351828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Рисунок 23" descr="MSOfficePNG(9).png"/>
            <p:cNvPicPr/>
            <p:nvPr/>
          </p:nvPicPr>
          <p:blipFill>
            <a:blip r:embed="rId5">
              <a:alphaModFix amt="0"/>
            </a:blip>
            <a:stretch/>
          </p:blipFill>
          <p:spPr>
            <a:xfrm>
              <a:off x="-61920" y="2328120"/>
              <a:ext cx="44136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Рисунок 24" descr="MSOfficePNG(10).png"/>
            <p:cNvPicPr/>
            <p:nvPr/>
          </p:nvPicPr>
          <p:blipFill>
            <a:blip r:embed="rId6">
              <a:alphaModFix amt="0"/>
            </a:blip>
            <a:stretch/>
          </p:blipFill>
          <p:spPr>
            <a:xfrm>
              <a:off x="5163120" y="1064880"/>
              <a:ext cx="4499280" cy="3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Рисунок 25" descr="MSOfficePNG(11).png"/>
            <p:cNvPicPr/>
            <p:nvPr/>
          </p:nvPicPr>
          <p:blipFill>
            <a:blip r:embed="rId7">
              <a:alphaModFix amt="0"/>
            </a:blip>
            <a:stretch/>
          </p:blipFill>
          <p:spPr>
            <a:xfrm>
              <a:off x="6958800" y="2396520"/>
              <a:ext cx="2270880" cy="3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Рисунок 26" descr="MSOfficePNG(12).png"/>
            <p:cNvPicPr/>
            <p:nvPr/>
          </p:nvPicPr>
          <p:blipFill>
            <a:blip r:embed="rId8">
              <a:alphaModFix amt="0"/>
            </a:blip>
            <a:stretch/>
          </p:blipFill>
          <p:spPr>
            <a:xfrm>
              <a:off x="6847200" y="2899800"/>
              <a:ext cx="28576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Рисунок 27" descr="MSOfficePNG(13).png"/>
            <p:cNvPicPr/>
            <p:nvPr/>
          </p:nvPicPr>
          <p:blipFill>
            <a:blip r:embed="rId9">
              <a:alphaModFix amt="0"/>
            </a:blip>
            <a:stretch/>
          </p:blipFill>
          <p:spPr>
            <a:xfrm>
              <a:off x="6872040" y="1867320"/>
              <a:ext cx="276660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Рисунок 28" descr="MSOfficePNG(14).png"/>
            <p:cNvPicPr/>
            <p:nvPr/>
          </p:nvPicPr>
          <p:blipFill>
            <a:blip r:embed="rId10">
              <a:alphaModFix amt="0"/>
            </a:blip>
            <a:stretch/>
          </p:blipFill>
          <p:spPr>
            <a:xfrm>
              <a:off x="4952520" y="1517400"/>
              <a:ext cx="477468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Рисунок 29" descr="MSOfficePNG(15).png"/>
            <p:cNvPicPr/>
            <p:nvPr/>
          </p:nvPicPr>
          <p:blipFill>
            <a:blip r:embed="rId11">
              <a:alphaModFix amt="0"/>
            </a:blip>
            <a:stretch/>
          </p:blipFill>
          <p:spPr>
            <a:xfrm>
              <a:off x="6277680" y="5187240"/>
              <a:ext cx="319608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Рисунок 30" descr="MSOfficePNG(16).png"/>
            <p:cNvPicPr/>
            <p:nvPr/>
          </p:nvPicPr>
          <p:blipFill>
            <a:blip r:embed="rId12">
              <a:alphaModFix amt="0"/>
            </a:blip>
            <a:stretch/>
          </p:blipFill>
          <p:spPr>
            <a:xfrm>
              <a:off x="6847200" y="3668040"/>
              <a:ext cx="299196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Рисунок 31" descr="MSOfficePNG(17).png"/>
            <p:cNvPicPr/>
            <p:nvPr/>
          </p:nvPicPr>
          <p:blipFill>
            <a:blip r:embed="rId13">
              <a:alphaModFix amt="0"/>
            </a:blip>
            <a:stretch/>
          </p:blipFill>
          <p:spPr>
            <a:xfrm>
              <a:off x="5225040" y="6023880"/>
              <a:ext cx="432900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Рисунок 32" descr="MSOfficePNG(18).png"/>
            <p:cNvPicPr/>
            <p:nvPr/>
          </p:nvPicPr>
          <p:blipFill>
            <a:blip r:embed="rId14">
              <a:alphaModFix amt="0"/>
            </a:blip>
            <a:stretch/>
          </p:blipFill>
          <p:spPr>
            <a:xfrm>
              <a:off x="6909120" y="4743720"/>
              <a:ext cx="2841480" cy="3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Рисунок 33" descr="MSOfficePNG(19).png"/>
            <p:cNvPicPr/>
            <p:nvPr/>
          </p:nvPicPr>
          <p:blipFill>
            <a:blip r:embed="rId15">
              <a:alphaModFix amt="0"/>
            </a:blip>
            <a:stretch/>
          </p:blipFill>
          <p:spPr>
            <a:xfrm>
              <a:off x="6686280" y="3992400"/>
              <a:ext cx="2791440" cy="3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Рисунок 34" descr="MSOfficePNG(20).png"/>
            <p:cNvPicPr/>
            <p:nvPr/>
          </p:nvPicPr>
          <p:blipFill>
            <a:blip r:embed="rId16">
              <a:alphaModFix amt="0"/>
            </a:blip>
            <a:stretch/>
          </p:blipFill>
          <p:spPr>
            <a:xfrm>
              <a:off x="6475680" y="5528880"/>
              <a:ext cx="290160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Рисунок 35" descr="MSOfficePNG(22).png"/>
            <p:cNvPicPr/>
            <p:nvPr/>
          </p:nvPicPr>
          <p:blipFill>
            <a:blip r:embed="rId17">
              <a:alphaModFix amt="0"/>
            </a:blip>
            <a:stretch/>
          </p:blipFill>
          <p:spPr>
            <a:xfrm>
              <a:off x="6351840" y="4376520"/>
              <a:ext cx="2826000" cy="35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Рисунок 36" descr="MSOfficePNG(23).png"/>
            <p:cNvPicPr/>
            <p:nvPr/>
          </p:nvPicPr>
          <p:blipFill>
            <a:blip r:embed="rId18">
              <a:alphaModFix amt="0"/>
            </a:blip>
            <a:stretch/>
          </p:blipFill>
          <p:spPr>
            <a:xfrm>
              <a:off x="210240" y="5375160"/>
              <a:ext cx="4298400" cy="3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Рисунок 37" descr="MSOfficePNG(21).png"/>
            <p:cNvPicPr/>
            <p:nvPr/>
          </p:nvPicPr>
          <p:blipFill>
            <a:blip r:embed="rId19">
              <a:alphaModFix amt="0"/>
            </a:blip>
            <a:stretch/>
          </p:blipFill>
          <p:spPr>
            <a:xfrm>
              <a:off x="-61920" y="3642480"/>
              <a:ext cx="301788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38" descr="MSOfficePNG(25).png"/>
            <p:cNvPicPr/>
            <p:nvPr/>
          </p:nvPicPr>
          <p:blipFill>
            <a:blip r:embed="rId20">
              <a:alphaModFix amt="0"/>
            </a:blip>
            <a:stretch/>
          </p:blipFill>
          <p:spPr>
            <a:xfrm>
              <a:off x="160560" y="4641120"/>
              <a:ext cx="3500280" cy="4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Рисунок 39" descr="MSOfficePNG(26).png"/>
            <p:cNvPicPr/>
            <p:nvPr/>
          </p:nvPicPr>
          <p:blipFill>
            <a:blip r:embed="rId21">
              <a:alphaModFix amt="0"/>
            </a:blip>
            <a:stretch/>
          </p:blipFill>
          <p:spPr>
            <a:xfrm>
              <a:off x="-74520" y="3992400"/>
              <a:ext cx="20995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Рисунок 40" descr="MSOfficePNG(27).png"/>
            <p:cNvPicPr/>
            <p:nvPr/>
          </p:nvPicPr>
          <p:blipFill>
            <a:blip r:embed="rId22">
              <a:alphaModFix amt="0"/>
            </a:blip>
            <a:stretch/>
          </p:blipFill>
          <p:spPr>
            <a:xfrm>
              <a:off x="-37080" y="1022400"/>
              <a:ext cx="43030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Рисунок 41" descr="MSOfficePNG(28).png"/>
            <p:cNvPicPr/>
            <p:nvPr/>
          </p:nvPicPr>
          <p:blipFill>
            <a:blip r:embed="rId23">
              <a:alphaModFix amt="0"/>
            </a:blip>
            <a:stretch/>
          </p:blipFill>
          <p:spPr>
            <a:xfrm>
              <a:off x="-61920" y="1320840"/>
              <a:ext cx="3993840" cy="30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2C8B335F-D33D-4BB8-BEE9-8CCD3F5EA480_mw800_mh600_s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2"/>
          <p:cNvSpPr/>
          <p:nvPr/>
        </p:nvSpPr>
        <p:spPr>
          <a:xfrm>
            <a:off x="2698920" y="393840"/>
            <a:ext cx="5014800" cy="639720"/>
          </a:xfrm>
          <a:custGeom>
            <a:avLst/>
            <a:gdLst>
              <a:gd name="textAreaLeft" fmla="*/ 0 w 5014800"/>
              <a:gd name="textAreaRight" fmla="*/ 5015160 w 5014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5143501" h="1041401">
                <a:moveTo>
                  <a:pt x="857250" y="0"/>
                </a:moveTo>
                <a:lnTo>
                  <a:pt x="4371593" y="0"/>
                </a:lnTo>
                <a:lnTo>
                  <a:pt x="4457700" y="3555"/>
                </a:lnTo>
                <a:lnTo>
                  <a:pt x="4611623" y="12065"/>
                </a:lnTo>
                <a:lnTo>
                  <a:pt x="4757546" y="29591"/>
                </a:lnTo>
                <a:lnTo>
                  <a:pt x="4826127" y="38100"/>
                </a:lnTo>
                <a:lnTo>
                  <a:pt x="4946522" y="62483"/>
                </a:lnTo>
                <a:lnTo>
                  <a:pt x="5031867" y="90297"/>
                </a:lnTo>
                <a:lnTo>
                  <a:pt x="5074919" y="105917"/>
                </a:lnTo>
                <a:lnTo>
                  <a:pt x="5117972" y="137033"/>
                </a:lnTo>
                <a:lnTo>
                  <a:pt x="5134736" y="154558"/>
                </a:lnTo>
                <a:lnTo>
                  <a:pt x="5134736" y="163067"/>
                </a:lnTo>
                <a:lnTo>
                  <a:pt x="5143500" y="173608"/>
                </a:lnTo>
                <a:lnTo>
                  <a:pt x="5143500" y="867791"/>
                </a:lnTo>
                <a:lnTo>
                  <a:pt x="5134736" y="876553"/>
                </a:lnTo>
                <a:lnTo>
                  <a:pt x="5134736" y="885316"/>
                </a:lnTo>
                <a:lnTo>
                  <a:pt x="5117972" y="902589"/>
                </a:lnTo>
                <a:lnTo>
                  <a:pt x="5074919" y="933704"/>
                </a:lnTo>
                <a:lnTo>
                  <a:pt x="4989576" y="963295"/>
                </a:lnTo>
                <a:lnTo>
                  <a:pt x="4946522" y="977138"/>
                </a:lnTo>
                <a:lnTo>
                  <a:pt x="4826127" y="1001522"/>
                </a:lnTo>
                <a:lnTo>
                  <a:pt x="4688967" y="1018794"/>
                </a:lnTo>
                <a:lnTo>
                  <a:pt x="4611623" y="1027557"/>
                </a:lnTo>
                <a:lnTo>
                  <a:pt x="4457700" y="1036192"/>
                </a:lnTo>
                <a:lnTo>
                  <a:pt x="4371593" y="1039622"/>
                </a:lnTo>
                <a:lnTo>
                  <a:pt x="4329303" y="1039622"/>
                </a:lnTo>
                <a:lnTo>
                  <a:pt x="4286250" y="1041400"/>
                </a:lnTo>
                <a:lnTo>
                  <a:pt x="857250" y="1041400"/>
                </a:lnTo>
                <a:lnTo>
                  <a:pt x="805434" y="1039622"/>
                </a:lnTo>
                <a:lnTo>
                  <a:pt x="763142" y="1039622"/>
                </a:lnTo>
                <a:lnTo>
                  <a:pt x="677036" y="1036192"/>
                </a:lnTo>
                <a:lnTo>
                  <a:pt x="523113" y="1027557"/>
                </a:lnTo>
                <a:lnTo>
                  <a:pt x="377189" y="1010030"/>
                </a:lnTo>
                <a:lnTo>
                  <a:pt x="308610" y="1001522"/>
                </a:lnTo>
                <a:lnTo>
                  <a:pt x="188976" y="977138"/>
                </a:lnTo>
                <a:lnTo>
                  <a:pt x="102870" y="949325"/>
                </a:lnTo>
                <a:lnTo>
                  <a:pt x="59817" y="933704"/>
                </a:lnTo>
                <a:lnTo>
                  <a:pt x="17526" y="902589"/>
                </a:lnTo>
                <a:lnTo>
                  <a:pt x="0" y="885316"/>
                </a:lnTo>
                <a:lnTo>
                  <a:pt x="0" y="154558"/>
                </a:lnTo>
                <a:lnTo>
                  <a:pt x="17526" y="137033"/>
                </a:lnTo>
                <a:lnTo>
                  <a:pt x="59817" y="105917"/>
                </a:lnTo>
                <a:lnTo>
                  <a:pt x="145923" y="76327"/>
                </a:lnTo>
                <a:lnTo>
                  <a:pt x="188976" y="62483"/>
                </a:lnTo>
                <a:lnTo>
                  <a:pt x="308610" y="38100"/>
                </a:lnTo>
                <a:lnTo>
                  <a:pt x="445770" y="20827"/>
                </a:lnTo>
                <a:lnTo>
                  <a:pt x="523113" y="12065"/>
                </a:lnTo>
                <a:lnTo>
                  <a:pt x="677036" y="3555"/>
                </a:lnTo>
                <a:lnTo>
                  <a:pt x="763142" y="0"/>
                </a:lnTo>
                <a:lnTo>
                  <a:pt x="857250" y="0"/>
                </a:lnTo>
                <a:close/>
              </a:path>
            </a:pathLst>
          </a:custGeom>
          <a:solidFill>
            <a:srgbClr val="ffd7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6600" rIns="66600" tIns="33120" bIns="33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3"/>
          <p:cNvSpPr/>
          <p:nvPr/>
        </p:nvSpPr>
        <p:spPr>
          <a:xfrm>
            <a:off x="1449360" y="984240"/>
            <a:ext cx="333360" cy="3497400"/>
          </a:xfrm>
          <a:custGeom>
            <a:avLst/>
            <a:gdLst>
              <a:gd name="textAreaLeft" fmla="*/ 0 w 333360"/>
              <a:gd name="textAreaRight" fmla="*/ 333720 w 333360"/>
              <a:gd name="textAreaTop" fmla="*/ 0 h 3497400"/>
              <a:gd name="textAreaBottom" fmla="*/ 3497760 h 3497400"/>
            </a:gdLst>
            <a:ahLst/>
            <a:rect l="textAreaLeft" t="textAreaTop" r="textAreaRight" b="textAreaBottom"/>
            <a:pathLst>
              <a:path w="342901" h="5689601">
                <a:moveTo>
                  <a:pt x="0" y="0"/>
                </a:moveTo>
                <a:lnTo>
                  <a:pt x="342900" y="0"/>
                </a:lnTo>
                <a:lnTo>
                  <a:pt x="342900" y="5689600"/>
                </a:lnTo>
                <a:lnTo>
                  <a:pt x="0" y="568960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6600" rIns="66600" tIns="33120" bIns="33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637000" y="393840"/>
            <a:ext cx="53006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- 36"/>
              </a:rPr>
              <a:t>Ответы на вопросы т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MSOfficePNG(30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857240" y="960480"/>
            <a:ext cx="200988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1473120" y="1073160"/>
            <a:ext cx="5954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- 24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1473120" y="1460520"/>
            <a:ext cx="5954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- 24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1486080" y="1839960"/>
            <a:ext cx="5936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- 24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449360" y="2268360"/>
            <a:ext cx="6192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- 24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1449360" y="2722680"/>
            <a:ext cx="5936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- 24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1473120" y="3211560"/>
            <a:ext cx="5954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- 24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460520" y="3687840"/>
            <a:ext cx="5954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- 24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3" descr="MSOfficePNG(31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1838160" y="1368360"/>
            <a:ext cx="5088240" cy="4143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4" descr="MSOfficePNG(32)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1808280" y="1762200"/>
            <a:ext cx="6497640" cy="411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MSOfficePNG(33).png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1808280" y="2185920"/>
            <a:ext cx="2184120" cy="4255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MSOfficePNG(34).png"/>
          <p:cNvPicPr/>
          <p:nvPr/>
        </p:nvPicPr>
        <p:blipFill>
          <a:blip r:embed="rId6">
            <a:alphaModFix amt="0"/>
          </a:blip>
          <a:stretch/>
        </p:blipFill>
        <p:spPr>
          <a:xfrm>
            <a:off x="1782720" y="2606760"/>
            <a:ext cx="2990880" cy="441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7" descr="MSOfficePNG(35).png"/>
          <p:cNvPicPr/>
          <p:nvPr/>
        </p:nvPicPr>
        <p:blipFill>
          <a:blip r:embed="rId7">
            <a:alphaModFix amt="0"/>
          </a:blip>
          <a:stretch/>
        </p:blipFill>
        <p:spPr>
          <a:xfrm>
            <a:off x="1770120" y="3083040"/>
            <a:ext cx="2819520" cy="4712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8" descr="MSOfficePNG(36).png"/>
          <p:cNvPicPr/>
          <p:nvPr/>
        </p:nvPicPr>
        <p:blipFill>
          <a:blip r:embed="rId8">
            <a:alphaModFix amt="0"/>
          </a:blip>
          <a:stretch/>
        </p:blipFill>
        <p:spPr>
          <a:xfrm>
            <a:off x="1733400" y="3571920"/>
            <a:ext cx="6380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Группа 15"/>
          <p:cNvGrpSpPr/>
          <p:nvPr/>
        </p:nvGrpSpPr>
        <p:grpSpPr>
          <a:xfrm>
            <a:off x="824040" y="426960"/>
            <a:ext cx="1509480" cy="5473440"/>
            <a:chOff x="824040" y="426960"/>
            <a:chExt cx="1509480" cy="5473440"/>
          </a:xfrm>
        </p:grpSpPr>
        <p:sp>
          <p:nvSpPr>
            <p:cNvPr id="179" name="Полилиния 1"/>
            <p:cNvSpPr/>
            <p:nvPr/>
          </p:nvSpPr>
          <p:spPr>
            <a:xfrm>
              <a:off x="824040" y="337680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олилиния 2"/>
            <p:cNvSpPr/>
            <p:nvPr/>
          </p:nvSpPr>
          <p:spPr>
            <a:xfrm>
              <a:off x="824040" y="288144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олилиния 3"/>
            <p:cNvSpPr/>
            <p:nvPr/>
          </p:nvSpPr>
          <p:spPr>
            <a:xfrm>
              <a:off x="824040" y="240660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олилиния 4"/>
            <p:cNvSpPr/>
            <p:nvPr/>
          </p:nvSpPr>
          <p:spPr>
            <a:xfrm>
              <a:off x="836640" y="191124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олилиния 5"/>
            <p:cNvSpPr/>
            <p:nvPr/>
          </p:nvSpPr>
          <p:spPr>
            <a:xfrm>
              <a:off x="824040" y="388152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олилиния 6"/>
            <p:cNvSpPr/>
            <p:nvPr/>
          </p:nvSpPr>
          <p:spPr>
            <a:xfrm>
              <a:off x="824040" y="1417320"/>
              <a:ext cx="1496880" cy="47304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олилиния 7"/>
            <p:cNvSpPr/>
            <p:nvPr/>
          </p:nvSpPr>
          <p:spPr>
            <a:xfrm>
              <a:off x="824040" y="4388040"/>
              <a:ext cx="1496880" cy="47304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олилиния 8"/>
            <p:cNvSpPr/>
            <p:nvPr/>
          </p:nvSpPr>
          <p:spPr>
            <a:xfrm>
              <a:off x="824040" y="93168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олилиния 9"/>
            <p:cNvSpPr/>
            <p:nvPr/>
          </p:nvSpPr>
          <p:spPr>
            <a:xfrm>
              <a:off x="824040" y="489276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10"/>
            <p:cNvSpPr/>
            <p:nvPr/>
          </p:nvSpPr>
          <p:spPr>
            <a:xfrm>
              <a:off x="824040" y="42696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1"/>
            <p:cNvSpPr/>
            <p:nvPr/>
          </p:nvSpPr>
          <p:spPr>
            <a:xfrm>
              <a:off x="978480" y="50940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 - 24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1176480" y="2984760"/>
              <a:ext cx="10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 - 24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олилиния 13"/>
            <p:cNvSpPr/>
            <p:nvPr/>
          </p:nvSpPr>
          <p:spPr>
            <a:xfrm>
              <a:off x="824040" y="5377320"/>
              <a:ext cx="1496880" cy="47448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36701" h="584201">
                  <a:moveTo>
                    <a:pt x="0" y="0"/>
                  </a:moveTo>
                  <a:lnTo>
                    <a:pt x="1536700" y="0"/>
                  </a:lnTo>
                  <a:lnTo>
                    <a:pt x="1536700" y="584200"/>
                  </a:lnTo>
                  <a:lnTo>
                    <a:pt x="0" y="584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1411560" y="55321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 - 24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6"/>
          <p:cNvSpPr/>
          <p:nvPr/>
        </p:nvSpPr>
        <p:spPr>
          <a:xfrm>
            <a:off x="3297240" y="1700280"/>
            <a:ext cx="512604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 - 36"/>
              </a:rPr>
              <a:t>Оцените уровень своих знаний, полученных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 - 36"/>
              </a:rPr>
              <a:t>Поставьте оценку в рабочем ли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MSOfficePNG(1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2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8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лайд16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474840"/>
            <a:ext cx="9906120" cy="73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29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560" y="-155520"/>
            <a:ext cx="99057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Слайд24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560" y="-182520"/>
            <a:ext cx="990576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Слайд25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-155520"/>
            <a:ext cx="988056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4:41:55Z</dcterms:created>
  <dc:creator>Валерий</dc:creator>
  <dc:description/>
  <dc:language>en-US</dc:language>
  <cp:lastModifiedBy>Валерий</cp:lastModifiedBy>
  <dcterms:modified xsi:type="dcterms:W3CDTF">2011-12-14T15:57:11Z</dcterms:modified>
  <cp:revision>8</cp:revision>
  <dc:subject/>
  <dc:title>Слайд 1</dc:title>
</cp:coreProperties>
</file>