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4BC-835D-46D5-B089-B4683194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D73-8DDF-4FF3-B1FA-1D3DDDF5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9950B-C34F-45FD-9519-7E4F813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319FD-3F89-4327-AF25-034A7715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6C967-6C5A-4066-9125-54ACCBF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241E-5A18-4F12-95C1-70E9E7C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B87F2-2A4B-4BCA-A110-179A821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CCF7F-7E5A-4646-AB45-2972EAD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E1327-AF89-4C08-98CB-7602CED2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824D7-A75B-4337-9336-6DB03AC6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744E4-B07E-4E48-9824-6A2BB4F6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8D0-D4EF-4451-A41D-46A4B4DB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00B-78F6-495C-BA69-BD3FBDCA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1A6E0-1435-4AA1-B9D0-4C248BE9AB0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D6AE8-20C0-4DDE-9E5C-A332525B90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309AF-0510-408E-AA8D-B79F34E83E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1D987-E6B7-4B0E-B33D-FE6FDE09CD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66FE0-5F67-4740-B25C-5735A2A695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3DEDC-6A9B-42A6-AF20-2C7584E1C6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70A7D-C013-4308-ADAB-CED8AC1359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2D6F1-7B05-4563-9269-F7534A92103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369B3-5575-47D3-94BA-A8A46A5C3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6497-75B1-4016-9148-87E24C2E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1AE72-C23C-4BA3-91E8-28C2DE52D0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5823E-03C0-471B-9628-A4E10D4019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F6B04-DDFA-4B6E-992C-5AE229EC69B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DB95-84D7-4F8B-A061-6A493C9A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431F-5B18-4F46-BE8E-23609C18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D8AB-DD87-429B-A54B-9C263C1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2EC-079F-4214-AC56-C49908AA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AA6C-9E29-4E0B-9D4B-8D97689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BAD5-8677-437F-88F7-0F67ED9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8C6-5288-471F-9789-E7D08B6F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BD6F-8A9E-4631-BAF3-DBDFF10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BA5A-21B9-4BDC-A6FC-0594CBE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E89E-75D4-4A53-A3E3-B665DD8C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BE90-3840-4F73-ABBF-DDEBC0A5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7125-A116-4970-A859-861A613C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73B1-C108-4AC9-A130-3B2F8CF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2DA9-641D-4D49-AEC1-93B7A4E6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07AF-AA58-475C-83D7-5EC1E0A3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AE78-BA3A-4034-8D28-72745D9C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4ED8-0061-4661-BD04-8D7903A6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B02-92A0-4057-8827-AEC187A3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5EFC-FE8D-40CC-BB06-0577BFF5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0FF8-2C2F-447C-B626-710C021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17A8-23DA-43C8-BF68-810B7F0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DDB4-EC58-4810-BEAB-C503F15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287B-877E-4B7B-8DD2-7DCDAAC9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B699-2938-4298-AC7C-D1A1614A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7560-A65B-4942-A880-1A4CE52B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E560-0B63-451D-BB6F-60B1273A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A196-6A51-472D-9FC2-29E1EF8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3DE2-48E8-40FF-9B94-82531F76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189-9A0C-4102-9314-1E4ECF2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9762-CBDD-4682-B62D-C3D6E1A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22AD-72F6-4216-84C8-CB4B9F18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7AFD-D79A-4511-A68B-7ED77615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45D9-F11E-4CF8-849B-E9347A9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2282-3C72-4B3E-A925-3AEF0C4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4F72-CEF5-4827-932B-6A6C06B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662E-7C63-456B-975A-84409D7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33F9-7CC6-45DC-80FF-94385213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1F45-E599-4D59-8CB7-B33F339A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6E34-BDFB-4630-B04C-7C5C7EAF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3D5-C5E9-4028-8BAD-8FF9F14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40DF-2129-416C-A8E6-586A258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7AEC2-F2FD-486A-8EE3-6947DFC6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2057-D233-45C7-9373-B94F0D5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45D1-4B8F-49CF-BD5A-C368A3D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8774-AFE3-45C8-8199-B8D8ECF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C171-AC3B-42B4-93AC-76B2D76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5FEF5-3C89-403A-8DD6-965BF22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0799-D70B-47D4-B127-E507B9DD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7D79F-9940-448D-AE28-A3E9620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D0D8-17AA-408E-A88E-497A8DDB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DB5-B623-4B4C-BC40-BC053ADA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04C4A-39E3-4D36-87E1-32C5A766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DCB3-CC7E-41DD-809D-08CB0315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34C1B-FC62-484E-8A3F-6BE304F2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4AAE5-882D-4816-A2C3-F49068D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E254C-455F-4496-8FBC-1FF96444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BD9F-1B1A-4189-B72E-BD4A0E46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DB55-36C2-4DEC-B4B2-7C2B2628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28E9A-0A79-47C1-8179-77F970D9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8F52-3C40-4A74-A902-9D8E29A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045B-464E-49DB-B365-AF81B97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2B1-B274-491F-9C29-BEB70980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C16D-DFF8-42A9-B9DF-3B5C8663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0063-A3E0-4725-8A31-C184EA56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D2C7-3F3D-468F-AABE-0974C1F6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4E77-BE75-4B59-A8EA-88471F05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5CCB-5F90-4BFA-BB33-515C984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B1F82-7EAD-4338-B332-6AF229C4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37D8-73E6-4429-8C52-F1BF6C4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0F77-D016-4026-A95C-7F5973E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6F8C-8802-43CA-AE46-941FF519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4E78-B15C-4880-BA0F-CDEEFC4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3E7-A76C-4962-A3B0-823C1B8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B9B30-5F69-4478-B376-6565DEC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4672E-02B5-4F8F-B2C4-F23E490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AF48-8645-40B8-B26C-43434121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411E7-E76C-4D98-85D2-0F0A6436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A9B8-0DC8-4777-9724-861B8834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99B3-AD21-48B2-81A0-4780AF5A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49FC-896D-4F80-B850-EFC4A7F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F3C5-E3D5-43D0-98AC-7BC10F62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FFD3-5D83-41E5-B2C4-F319257F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FB7C2-513E-478E-8856-EBD371A4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8FB-DCB4-43A7-8F2F-72BE6CA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71400" y="120240"/>
            <a:ext cx="78012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EE3AF-FF7E-45AE-87B5-1D2568C4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5B956-B276-4C34-BDF5-9BA2A06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19A68-347F-4BFA-933E-F78693A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A5CA7-3488-40AF-8545-752C25B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71400" y="4347720"/>
            <a:ext cx="78012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8BE6-BCD3-4382-96F8-24A78CA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840" y="14479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7140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840" y="4347720"/>
            <a:ext cx="38066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B279-9D98-4E6D-A9DD-9C90C70E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0912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6840" y="14479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7140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0912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6840" y="4347720"/>
            <a:ext cx="2511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BAFAB-2A2F-443F-AF2D-8527CD1C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AF259-CDA1-4A78-870D-5D98E584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17A35-5651-40F6-85F5-37840992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A98B0-3671-4098-BBD6-C2CF98AF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66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05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47159-A587-4B61-AA1D-062A743ACFF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71040" y="166320"/>
            <a:ext cx="779148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14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756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551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Num" idx="28"/>
          </p:nvPr>
        </p:nvSpPr>
        <p:spPr>
          <a:xfrm>
            <a:off x="7041960" y="6243480"/>
            <a:ext cx="18874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888F60-7ADB-4C98-84DF-EC25488BE093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0800000">
            <a:off x="0" y="2160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5">
                <a:moveTo>
                  <a:pt x="1223" y="713"/>
                </a:moveTo>
                <a:cubicBezTo>
                  <a:pt x="0" y="648"/>
                  <a:pt x="2612" y="673"/>
                  <a:pt x="2025" y="535"/>
                </a:cubicBezTo>
                <a:cubicBezTo>
                  <a:pt x="1438" y="397"/>
                  <a:pt x="3677" y="431"/>
                  <a:pt x="3947" y="341"/>
                </a:cubicBezTo>
                <a:cubicBezTo>
                  <a:pt x="4066" y="302"/>
                  <a:pt x="3996" y="213"/>
                  <a:pt x="3839" y="174"/>
                </a:cubicBezTo>
                <a:cubicBezTo>
                  <a:pt x="3830" y="172"/>
                  <a:pt x="2498" y="98"/>
                  <a:pt x="2759" y="49"/>
                </a:cubicBezTo>
                <a:cubicBezTo>
                  <a:pt x="3020" y="0"/>
                  <a:pt x="6565" y="367"/>
                  <a:pt x="6554" y="434"/>
                </a:cubicBezTo>
                <a:cubicBezTo>
                  <a:pt x="6543" y="501"/>
                  <a:pt x="4796" y="573"/>
                  <a:pt x="4796" y="573"/>
                </a:cubicBezTo>
                <a:lnTo>
                  <a:pt x="5655" y="663"/>
                </a:lnTo>
                <a:lnTo>
                  <a:pt x="7025" y="680"/>
                </a:lnTo>
                <a:lnTo>
                  <a:pt x="9264" y="792"/>
                </a:lnTo>
                <a:cubicBezTo>
                  <a:pt x="9264" y="792"/>
                  <a:pt x="10256" y="626"/>
                  <a:pt x="10044" y="648"/>
                </a:cubicBezTo>
                <a:cubicBezTo>
                  <a:pt x="9833" y="670"/>
                  <a:pt x="11017" y="659"/>
                  <a:pt x="11119" y="627"/>
                </a:cubicBezTo>
                <a:cubicBezTo>
                  <a:pt x="11222" y="595"/>
                  <a:pt x="11424" y="637"/>
                  <a:pt x="11434" y="638"/>
                </a:cubicBezTo>
                <a:cubicBezTo>
                  <a:pt x="11806" y="670"/>
                  <a:pt x="12046" y="705"/>
                  <a:pt x="12314" y="715"/>
                </a:cubicBezTo>
                <a:cubicBezTo>
                  <a:pt x="12583" y="725"/>
                  <a:pt x="13177" y="680"/>
                  <a:pt x="13520" y="698"/>
                </a:cubicBezTo>
                <a:cubicBezTo>
                  <a:pt x="13863" y="716"/>
                  <a:pt x="14381" y="638"/>
                  <a:pt x="14381" y="638"/>
                </a:cubicBezTo>
                <a:lnTo>
                  <a:pt x="14381" y="765"/>
                </a:lnTo>
                <a:cubicBezTo>
                  <a:pt x="14381" y="765"/>
                  <a:pt x="11207" y="964"/>
                  <a:pt x="11221" y="964"/>
                </a:cubicBezTo>
                <a:cubicBezTo>
                  <a:pt x="11235" y="964"/>
                  <a:pt x="7757" y="969"/>
                  <a:pt x="7770" y="969"/>
                </a:cubicBezTo>
                <a:cubicBezTo>
                  <a:pt x="7783" y="969"/>
                  <a:pt x="5431" y="910"/>
                  <a:pt x="5431" y="910"/>
                </a:cubicBezTo>
                <a:cubicBezTo>
                  <a:pt x="5431" y="910"/>
                  <a:pt x="4149" y="883"/>
                  <a:pt x="4228" y="873"/>
                </a:cubicBezTo>
                <a:cubicBezTo>
                  <a:pt x="4307" y="863"/>
                  <a:pt x="2989" y="1334"/>
                  <a:pt x="2810" y="1301"/>
                </a:cubicBezTo>
                <a:cubicBezTo>
                  <a:pt x="2631" y="1269"/>
                  <a:pt x="1893" y="1076"/>
                  <a:pt x="1867" y="1087"/>
                </a:cubicBezTo>
                <a:cubicBezTo>
                  <a:pt x="1840" y="1098"/>
                  <a:pt x="3058" y="810"/>
                  <a:pt x="2629" y="787"/>
                </a:cubicBezTo>
                <a:lnTo>
                  <a:pt x="1223" y="7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0600" y="6018120"/>
            <a:ext cx="5227560" cy="34632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49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1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4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1" y="551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7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1"/>
                </a:lnTo>
                <a:lnTo>
                  <a:pt x="11209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71040" y="117360"/>
            <a:ext cx="779796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1040" y="1447920"/>
            <a:ext cx="779796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0" y="1836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5">
                <a:moveTo>
                  <a:pt x="1223" y="713"/>
                </a:moveTo>
                <a:cubicBezTo>
                  <a:pt x="0" y="648"/>
                  <a:pt x="2612" y="673"/>
                  <a:pt x="2025" y="535"/>
                </a:cubicBezTo>
                <a:cubicBezTo>
                  <a:pt x="1438" y="397"/>
                  <a:pt x="3677" y="431"/>
                  <a:pt x="3947" y="341"/>
                </a:cubicBezTo>
                <a:cubicBezTo>
                  <a:pt x="4066" y="302"/>
                  <a:pt x="3996" y="213"/>
                  <a:pt x="3839" y="174"/>
                </a:cubicBezTo>
                <a:cubicBezTo>
                  <a:pt x="3830" y="172"/>
                  <a:pt x="2498" y="98"/>
                  <a:pt x="2759" y="49"/>
                </a:cubicBezTo>
                <a:cubicBezTo>
                  <a:pt x="3020" y="0"/>
                  <a:pt x="6565" y="367"/>
                  <a:pt x="6554" y="434"/>
                </a:cubicBezTo>
                <a:cubicBezTo>
                  <a:pt x="6543" y="501"/>
                  <a:pt x="4796" y="573"/>
                  <a:pt x="4796" y="573"/>
                </a:cubicBezTo>
                <a:lnTo>
                  <a:pt x="5655" y="663"/>
                </a:lnTo>
                <a:lnTo>
                  <a:pt x="7025" y="680"/>
                </a:lnTo>
                <a:lnTo>
                  <a:pt x="9264" y="792"/>
                </a:lnTo>
                <a:cubicBezTo>
                  <a:pt x="9264" y="792"/>
                  <a:pt x="10256" y="626"/>
                  <a:pt x="10044" y="648"/>
                </a:cubicBezTo>
                <a:cubicBezTo>
                  <a:pt x="9833" y="670"/>
                  <a:pt x="11017" y="659"/>
                  <a:pt x="11119" y="627"/>
                </a:cubicBezTo>
                <a:cubicBezTo>
                  <a:pt x="11222" y="595"/>
                  <a:pt x="11424" y="637"/>
                  <a:pt x="11434" y="638"/>
                </a:cubicBezTo>
                <a:cubicBezTo>
                  <a:pt x="11806" y="670"/>
                  <a:pt x="12046" y="705"/>
                  <a:pt x="12314" y="715"/>
                </a:cubicBezTo>
                <a:cubicBezTo>
                  <a:pt x="12583" y="725"/>
                  <a:pt x="13177" y="680"/>
                  <a:pt x="13520" y="698"/>
                </a:cubicBezTo>
                <a:cubicBezTo>
                  <a:pt x="13863" y="716"/>
                  <a:pt x="14381" y="638"/>
                  <a:pt x="14381" y="638"/>
                </a:cubicBezTo>
                <a:lnTo>
                  <a:pt x="14381" y="765"/>
                </a:lnTo>
                <a:cubicBezTo>
                  <a:pt x="14381" y="765"/>
                  <a:pt x="11207" y="964"/>
                  <a:pt x="11221" y="964"/>
                </a:cubicBezTo>
                <a:cubicBezTo>
                  <a:pt x="11235" y="964"/>
                  <a:pt x="7757" y="969"/>
                  <a:pt x="7770" y="969"/>
                </a:cubicBezTo>
                <a:cubicBezTo>
                  <a:pt x="7783" y="969"/>
                  <a:pt x="5431" y="910"/>
                  <a:pt x="5431" y="910"/>
                </a:cubicBezTo>
                <a:cubicBezTo>
                  <a:pt x="5431" y="910"/>
                  <a:pt x="4149" y="883"/>
                  <a:pt x="4228" y="873"/>
                </a:cubicBezTo>
                <a:cubicBezTo>
                  <a:pt x="4307" y="863"/>
                  <a:pt x="2989" y="1334"/>
                  <a:pt x="2810" y="1301"/>
                </a:cubicBezTo>
                <a:cubicBezTo>
                  <a:pt x="2631" y="1269"/>
                  <a:pt x="1893" y="1076"/>
                  <a:pt x="1867" y="1087"/>
                </a:cubicBezTo>
                <a:cubicBezTo>
                  <a:pt x="1840" y="1098"/>
                  <a:pt x="3058" y="810"/>
                  <a:pt x="2629" y="787"/>
                </a:cubicBezTo>
                <a:lnTo>
                  <a:pt x="1223" y="7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0600" y="6018120"/>
            <a:ext cx="5227560" cy="34632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49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1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4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1" y="551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7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1"/>
                </a:lnTo>
                <a:lnTo>
                  <a:pt x="11209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71040" y="118800"/>
            <a:ext cx="7799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1040" y="1447920"/>
            <a:ext cx="77994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0800000">
            <a:off x="0" y="1512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5">
                <a:moveTo>
                  <a:pt x="1223" y="713"/>
                </a:moveTo>
                <a:cubicBezTo>
                  <a:pt x="0" y="648"/>
                  <a:pt x="2612" y="673"/>
                  <a:pt x="2025" y="535"/>
                </a:cubicBezTo>
                <a:cubicBezTo>
                  <a:pt x="1438" y="397"/>
                  <a:pt x="3677" y="431"/>
                  <a:pt x="3947" y="341"/>
                </a:cubicBezTo>
                <a:cubicBezTo>
                  <a:pt x="4066" y="302"/>
                  <a:pt x="3996" y="213"/>
                  <a:pt x="3839" y="174"/>
                </a:cubicBezTo>
                <a:cubicBezTo>
                  <a:pt x="3830" y="172"/>
                  <a:pt x="2498" y="98"/>
                  <a:pt x="2759" y="49"/>
                </a:cubicBezTo>
                <a:cubicBezTo>
                  <a:pt x="3020" y="0"/>
                  <a:pt x="6565" y="367"/>
                  <a:pt x="6554" y="434"/>
                </a:cubicBezTo>
                <a:cubicBezTo>
                  <a:pt x="6543" y="501"/>
                  <a:pt x="4796" y="573"/>
                  <a:pt x="4796" y="573"/>
                </a:cubicBezTo>
                <a:lnTo>
                  <a:pt x="5655" y="663"/>
                </a:lnTo>
                <a:lnTo>
                  <a:pt x="7025" y="680"/>
                </a:lnTo>
                <a:lnTo>
                  <a:pt x="9264" y="792"/>
                </a:lnTo>
                <a:cubicBezTo>
                  <a:pt x="9264" y="792"/>
                  <a:pt x="10256" y="626"/>
                  <a:pt x="10044" y="648"/>
                </a:cubicBezTo>
                <a:cubicBezTo>
                  <a:pt x="9833" y="670"/>
                  <a:pt x="11017" y="659"/>
                  <a:pt x="11119" y="627"/>
                </a:cubicBezTo>
                <a:cubicBezTo>
                  <a:pt x="11222" y="595"/>
                  <a:pt x="11424" y="637"/>
                  <a:pt x="11434" y="638"/>
                </a:cubicBezTo>
                <a:cubicBezTo>
                  <a:pt x="11806" y="670"/>
                  <a:pt x="12046" y="705"/>
                  <a:pt x="12314" y="715"/>
                </a:cubicBezTo>
                <a:cubicBezTo>
                  <a:pt x="12583" y="725"/>
                  <a:pt x="13177" y="680"/>
                  <a:pt x="13520" y="698"/>
                </a:cubicBezTo>
                <a:cubicBezTo>
                  <a:pt x="13863" y="716"/>
                  <a:pt x="14381" y="638"/>
                  <a:pt x="14381" y="638"/>
                </a:cubicBezTo>
                <a:lnTo>
                  <a:pt x="14381" y="765"/>
                </a:lnTo>
                <a:cubicBezTo>
                  <a:pt x="14381" y="765"/>
                  <a:pt x="11207" y="964"/>
                  <a:pt x="11221" y="964"/>
                </a:cubicBezTo>
                <a:cubicBezTo>
                  <a:pt x="11235" y="964"/>
                  <a:pt x="7757" y="969"/>
                  <a:pt x="7770" y="969"/>
                </a:cubicBezTo>
                <a:cubicBezTo>
                  <a:pt x="7783" y="969"/>
                  <a:pt x="5431" y="910"/>
                  <a:pt x="5431" y="910"/>
                </a:cubicBezTo>
                <a:cubicBezTo>
                  <a:pt x="5431" y="910"/>
                  <a:pt x="4149" y="883"/>
                  <a:pt x="4228" y="873"/>
                </a:cubicBezTo>
                <a:cubicBezTo>
                  <a:pt x="4307" y="863"/>
                  <a:pt x="2989" y="1334"/>
                  <a:pt x="2810" y="1301"/>
                </a:cubicBezTo>
                <a:cubicBezTo>
                  <a:pt x="2631" y="1269"/>
                  <a:pt x="1893" y="1076"/>
                  <a:pt x="1867" y="1087"/>
                </a:cubicBezTo>
                <a:cubicBezTo>
                  <a:pt x="1840" y="1098"/>
                  <a:pt x="3058" y="810"/>
                  <a:pt x="2629" y="787"/>
                </a:cubicBezTo>
                <a:lnTo>
                  <a:pt x="1223" y="7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0600" y="6018120"/>
            <a:ext cx="5227560" cy="34632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49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1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4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1" y="551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7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1"/>
                </a:lnTo>
                <a:lnTo>
                  <a:pt x="11209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71400" y="120240"/>
            <a:ext cx="7801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71400" y="1447920"/>
            <a:ext cx="780120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685960" y="-362880"/>
            <a:ext cx="5331600" cy="7215480"/>
            <a:chOff x="-2685960" y="-362880"/>
            <a:chExt cx="5331600" cy="7215480"/>
          </a:xfrm>
        </p:grpSpPr>
        <p:sp>
          <p:nvSpPr>
            <p:cNvPr id="42" name=""/>
            <p:cNvSpPr/>
            <p:nvPr/>
          </p:nvSpPr>
          <p:spPr>
            <a:xfrm rot="1560000">
              <a:off x="-2284560" y="4431600"/>
              <a:ext cx="756720" cy="1308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-979560" y="3110040"/>
              <a:ext cx="957240" cy="919080"/>
              <a:chOff x="-979560" y="3110040"/>
              <a:chExt cx="957240" cy="919080"/>
            </a:xfrm>
          </p:grpSpPr>
          <p:sp>
            <p:nvSpPr>
              <p:cNvPr id="44" name=""/>
              <p:cNvSpPr/>
              <p:nvPr/>
            </p:nvSpPr>
            <p:spPr>
              <a:xfrm flipH="1" rot="1560000">
                <a:off x="-327960" y="3288600"/>
                <a:ext cx="242280" cy="343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560000">
                <a:off x="-840240" y="3186360"/>
                <a:ext cx="415800" cy="285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560000">
                <a:off x="-969840" y="3797280"/>
                <a:ext cx="434520" cy="143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 rot="1560000">
              <a:off x="-1079640" y="2346120"/>
              <a:ext cx="1139400" cy="12535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2576880" y="3869280"/>
              <a:ext cx="5222520" cy="2983320"/>
              <a:chOff x="-2576880" y="3869280"/>
              <a:chExt cx="5222520" cy="2983320"/>
            </a:xfrm>
          </p:grpSpPr>
          <p:sp>
            <p:nvSpPr>
              <p:cNvPr id="49" name=""/>
              <p:cNvSpPr/>
              <p:nvPr/>
            </p:nvSpPr>
            <p:spPr>
              <a:xfrm flipH="1" rot="16800000">
                <a:off x="-2494440" y="5430240"/>
                <a:ext cx="1031760" cy="1032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16800000">
                <a:off x="-2234880" y="5811480"/>
                <a:ext cx="862920" cy="1049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16800000">
                <a:off x="-1982520" y="6065280"/>
                <a:ext cx="304560" cy="53028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16800000">
                <a:off x="-1361880" y="5611320"/>
                <a:ext cx="279000" cy="31500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800000">
                <a:off x="-1231200" y="5853960"/>
                <a:ext cx="66960" cy="1861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80880" y="3869280"/>
                <a:ext cx="2264760" cy="758880"/>
                <a:chOff x="380880" y="3869280"/>
                <a:chExt cx="2264760" cy="75888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6020000">
                  <a:off x="1742400" y="3705480"/>
                  <a:ext cx="523440" cy="12564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6020000">
                  <a:off x="792360" y="3951000"/>
                  <a:ext cx="119880" cy="5144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16020000">
                  <a:off x="319680" y="3938040"/>
                  <a:ext cx="218520" cy="8496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-2582640" y="5593320"/>
              <a:ext cx="850320" cy="937800"/>
              <a:chOff x="-2582640" y="5593320"/>
              <a:chExt cx="850320" cy="937800"/>
            </a:xfrm>
          </p:grpSpPr>
          <p:sp>
            <p:nvSpPr>
              <p:cNvPr id="59" name=""/>
              <p:cNvSpPr/>
              <p:nvPr/>
            </p:nvSpPr>
            <p:spPr>
              <a:xfrm rot="14040000">
                <a:off x="-2352960" y="6172200"/>
                <a:ext cx="214560" cy="34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4040000">
                <a:off x="-2543400" y="5823360"/>
                <a:ext cx="367920" cy="2840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4040000">
                <a:off x="-2095560" y="5719680"/>
                <a:ext cx="385200" cy="142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-662760" y="1674000"/>
              <a:ext cx="720720" cy="958320"/>
              <a:chOff x="-662760" y="1674000"/>
              <a:chExt cx="720720" cy="958320"/>
            </a:xfrm>
          </p:grpSpPr>
          <p:sp>
            <p:nvSpPr>
              <p:cNvPr id="63" name=""/>
              <p:cNvSpPr/>
              <p:nvPr/>
            </p:nvSpPr>
            <p:spPr>
              <a:xfrm rot="11520000">
                <a:off x="-198360" y="2285280"/>
                <a:ext cx="225000" cy="326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1520000">
                <a:off x="-638640" y="2124360"/>
                <a:ext cx="387360" cy="271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1520000">
                <a:off x="-469800" y="1714320"/>
                <a:ext cx="404640" cy="136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398240" y="99360"/>
              <a:ext cx="599400" cy="857880"/>
              <a:chOff x="1398240" y="99360"/>
              <a:chExt cx="599400" cy="857880"/>
            </a:xfrm>
          </p:grpSpPr>
          <p:sp>
            <p:nvSpPr>
              <p:cNvPr id="67" name=""/>
              <p:cNvSpPr/>
              <p:nvPr/>
            </p:nvSpPr>
            <p:spPr>
              <a:xfrm rot="1560000">
                <a:off x="1444320" y="127440"/>
                <a:ext cx="187560" cy="254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560000">
                <a:off x="1644480" y="397080"/>
                <a:ext cx="323280" cy="21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560000">
                <a:off x="1420560" y="782640"/>
                <a:ext cx="337320" cy="105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rot="1560000">
              <a:off x="77040" y="-69840"/>
              <a:ext cx="1121400" cy="12340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400000">
              <a:off x="-1773720" y="4750200"/>
              <a:ext cx="210600" cy="2710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400000">
              <a:off x="-1823040" y="5029560"/>
              <a:ext cx="104040" cy="684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560000">
              <a:off x="-2620800" y="5611680"/>
              <a:ext cx="187920" cy="3398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560000">
              <a:off x="-2509560" y="5407200"/>
              <a:ext cx="206640" cy="20736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560000">
              <a:off x="-2475720" y="5351760"/>
              <a:ext cx="73800" cy="13896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560000">
              <a:off x="-2241360" y="4415040"/>
              <a:ext cx="796680" cy="12074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3120000">
              <a:off x="-21600" y="270000"/>
              <a:ext cx="560160" cy="392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3120000">
              <a:off x="119520" y="865440"/>
              <a:ext cx="271080" cy="183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3120000">
              <a:off x="912960" y="404640"/>
              <a:ext cx="237960" cy="2552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3120000">
              <a:off x="144720" y="768600"/>
              <a:ext cx="993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3120000">
              <a:off x="849600" y="652680"/>
              <a:ext cx="115920" cy="640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560000">
              <a:off x="-540720" y="920160"/>
              <a:ext cx="576720" cy="1060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120000">
              <a:off x="46440" y="-57240"/>
              <a:ext cx="1312200" cy="110016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440" y="-503640"/>
            <a:ext cx="82249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67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14640" cy="4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6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14640" cy="4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9A2EFA-2E7F-4EA7-8E8A-123D0AE3D416}" type="slidenum">
              <a: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92880" y="-82440"/>
            <a:ext cx="8785080" cy="9217440"/>
            <a:chOff x="-92880" y="-82440"/>
            <a:chExt cx="8785080" cy="9217440"/>
          </a:xfrm>
        </p:grpSpPr>
        <p:grpSp>
          <p:nvGrpSpPr>
            <p:cNvPr id="126" name=""/>
            <p:cNvGrpSpPr/>
            <p:nvPr/>
          </p:nvGrpSpPr>
          <p:grpSpPr>
            <a:xfrm>
              <a:off x="4809240" y="2959560"/>
              <a:ext cx="2125080" cy="6175440"/>
              <a:chOff x="4809240" y="2959560"/>
              <a:chExt cx="2125080" cy="617544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4809240" y="6779880"/>
                <a:ext cx="2125080" cy="23547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4907880" y="6810840"/>
                <a:ext cx="909360" cy="8409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793480" y="6364440"/>
                <a:ext cx="440280" cy="3934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6058440" y="8156880"/>
                <a:ext cx="389160" cy="5486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731560" y="6449400"/>
                <a:ext cx="162360" cy="3297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6262560" y="7942320"/>
                <a:ext cx="189720" cy="1411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938560" y="2959200"/>
                <a:ext cx="524880" cy="32655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60000">
              <a:off x="-40680" y="3111840"/>
              <a:ext cx="513720" cy="10285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" y="1999800"/>
              <a:ext cx="2007000" cy="243000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46080" y="4142520"/>
              <a:ext cx="1276560" cy="7268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60000">
              <a:off x="1386360" y="4550040"/>
              <a:ext cx="563040" cy="73404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60000">
              <a:off x="1226520" y="4729320"/>
              <a:ext cx="136800" cy="4334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52560" y="5194800"/>
              <a:ext cx="1766160" cy="16603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22720" y="1590840"/>
              <a:ext cx="1334160" cy="1000800"/>
              <a:chOff x="4122720" y="1590840"/>
              <a:chExt cx="1334160" cy="1000800"/>
            </a:xfrm>
          </p:grpSpPr>
          <p:sp>
            <p:nvSpPr>
              <p:cNvPr id="141" name=""/>
              <p:cNvSpPr/>
              <p:nvPr/>
            </p:nvSpPr>
            <p:spPr>
              <a:xfrm rot="6480000">
                <a:off x="5051880" y="1596240"/>
                <a:ext cx="315360" cy="417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6480000">
                <a:off x="4599000" y="2107800"/>
                <a:ext cx="541440" cy="345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6480000">
                <a:off x="4010040" y="1925280"/>
                <a:ext cx="566280" cy="175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206760" y="212400"/>
              <a:ext cx="1186560" cy="968760"/>
              <a:chOff x="6206760" y="212400"/>
              <a:chExt cx="1186560" cy="968760"/>
            </a:xfrm>
          </p:grpSpPr>
          <p:sp>
            <p:nvSpPr>
              <p:cNvPr id="145" name=""/>
              <p:cNvSpPr/>
              <p:nvPr/>
            </p:nvSpPr>
            <p:spPr>
              <a:xfrm rot="8160000">
                <a:off x="7069320" y="601560"/>
                <a:ext cx="197640" cy="443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160000">
                <a:off x="6630480" y="746280"/>
                <a:ext cx="342360" cy="367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160000">
                <a:off x="6220440" y="310320"/>
                <a:ext cx="358200" cy="1854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97720" y="4976640"/>
              <a:ext cx="1034280" cy="865080"/>
              <a:chOff x="297720" y="4976640"/>
              <a:chExt cx="1034280" cy="865080"/>
            </a:xfrm>
          </p:grpSpPr>
          <p:sp>
            <p:nvSpPr>
              <p:cNvPr id="149" name=""/>
              <p:cNvSpPr/>
              <p:nvPr/>
            </p:nvSpPr>
            <p:spPr>
              <a:xfrm rot="17040000">
                <a:off x="353160" y="5509440"/>
                <a:ext cx="268920" cy="325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7040000">
                <a:off x="502560" y="5097600"/>
                <a:ext cx="460440" cy="269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7040000">
                <a:off x="967320" y="5388840"/>
                <a:ext cx="480240" cy="137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90360" y="-82440"/>
              <a:ext cx="1137600" cy="1415160"/>
              <a:chOff x="90360" y="-82440"/>
              <a:chExt cx="1137600" cy="141516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872280" y="-82440"/>
                <a:ext cx="355680" cy="5274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90000" y="185040"/>
                <a:ext cx="610920" cy="438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18160" y="1109160"/>
                <a:ext cx="637920" cy="223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564320" y="2569320"/>
              <a:ext cx="1127880" cy="1418760"/>
              <a:chOff x="7564320" y="2569320"/>
              <a:chExt cx="1127880" cy="141876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8335800" y="2569320"/>
                <a:ext cx="356040" cy="52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563960" y="2819880"/>
                <a:ext cx="610920" cy="439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625160" y="3764520"/>
                <a:ext cx="637920" cy="223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895760" y="2880"/>
              <a:ext cx="1373400" cy="140436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40000">
              <a:off x="3416400" y="181800"/>
              <a:ext cx="1085040" cy="9396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40000">
              <a:off x="3141360" y="1361880"/>
              <a:ext cx="524880" cy="4388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40000">
              <a:off x="3529440" y="1311840"/>
              <a:ext cx="194400" cy="3679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1720" y="0"/>
              <a:ext cx="195840" cy="1900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40000">
              <a:off x="3441960" y="1964880"/>
              <a:ext cx="624960" cy="364896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-46080" y="2932920"/>
              <a:ext cx="55440" cy="2077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76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14640" cy="4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5D1558-3D26-4E18-BC6A-AFC0140EB0C7}" type="slidenum">
              <a:rPr b="0" lang="ru-RU" sz="1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560" y="596520"/>
            <a:ext cx="617364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052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209" name="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838080" y="6245280"/>
            <a:ext cx="188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429000" y="6245280"/>
            <a:ext cx="287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937200" y="6245280"/>
            <a:ext cx="188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ABBA86-5AA2-4636-8297-56E11A0924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660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8080" y="1904760"/>
            <a:ext cx="79884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259" name="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533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990720" y="6245280"/>
            <a:ext cx="188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4"/>
          </p:nvPr>
        </p:nvSpPr>
        <p:spPr>
          <a:xfrm>
            <a:off x="3468240" y="6245280"/>
            <a:ext cx="28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5"/>
          </p:nvPr>
        </p:nvSpPr>
        <p:spPr>
          <a:xfrm>
            <a:off x="6937200" y="6245280"/>
            <a:ext cx="188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A7F6EC-CDC6-48AC-8FCD-1DF6906C2C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-3238560" y="0"/>
            <a:ext cx="11923920" cy="3808440"/>
            <a:chOff x="-3238560" y="0"/>
            <a:chExt cx="11923920" cy="3808440"/>
          </a:xfrm>
        </p:grpSpPr>
        <p:sp>
          <p:nvSpPr>
            <p:cNvPr id="307" name=""/>
            <p:cNvSpPr/>
            <p:nvPr/>
          </p:nvSpPr>
          <p:spPr>
            <a:xfrm>
              <a:off x="-3238560" y="685800"/>
              <a:ext cx="4113360" cy="31226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-2425680" y="0"/>
              <a:ext cx="3092400" cy="31528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1600" y="1523880"/>
              <a:ext cx="73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0160" y="219240"/>
            <a:ext cx="72943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370160" y="1827000"/>
            <a:ext cx="7294320" cy="74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76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8F0F1A-CB16-4701-B6E2-48EF0FC694C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352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2880" y="984240"/>
            <a:ext cx="7220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76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83EDE4-B324-4930-AF13-1A6442852CEB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196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397" name="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0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052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76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D07B17-6A49-44BF-97A5-844EBE372B2D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446" name="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533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7676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71CDFB-3017-462B-8E72-E1A231D2ED45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96f805-4892-444b-bf3b-bd5a6dfbc3b6/%5BM56_5-06%5D_%5BQS_06-03%5D.html" TargetMode="External"/><Relationship Id="rId2" Type="http://schemas.openxmlformats.org/officeDocument/2006/relationships/slideLayout" Target="../slideLayouts/slideLayout15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f4b6b948-860d-4759-acba-6912e8452681/%5BM56_5-06%5D_%5BMP+MA_03%5D.swf" TargetMode="External"/><Relationship Id="rId2" Type="http://schemas.openxmlformats.org/officeDocument/2006/relationships/slideLayout" Target="../slideLayouts/slideLayout15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46ee9577-ed4c-47dc-872a-04e6e0721f11/%5BM56_5-06%5D_%5BQS_10-01%5D.html" TargetMode="External"/><Relationship Id="rId2" Type="http://schemas.openxmlformats.org/officeDocument/2006/relationships/slideLayout" Target="../slideLayouts/slideLayout15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tematika-na.ru/5class/mat_5_25.php" TargetMode="External"/><Relationship Id="rId2" Type="http://schemas.openxmlformats.org/officeDocument/2006/relationships/slideLayout" Target="../slideLayouts/slideLayout1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1476360" y="-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Georgia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03280" y="4319640"/>
            <a:ext cx="65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читель математики МБОУ «Красногородская средняя общеобразовательная школа» Самрова Г.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71040" y="210960"/>
            <a:ext cx="780588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ставьте пропущенные слова в правилах сложения и вычитания десятичной дроб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74840" y="1591920"/>
            <a:ext cx="780552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Чтобы сложить (вычесть) десятичные дроби нуж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20560" y="2160720"/>
            <a:ext cx="145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уравн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41320" y="2017800"/>
            <a:ext cx="74390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в этих дробях количество знаков после запят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0360" y="2519280"/>
            <a:ext cx="5219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2)записать их друг под другом так, чтобы 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80000" y="2519280"/>
            <a:ext cx="4738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запятая была под запят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60360" y="3060720"/>
            <a:ext cx="77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3) выполнить сложение (вычитание), не обращая внимание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65640"/>
            <a:ext cx="19796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запяту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60360" y="3780000"/>
            <a:ext cx="275904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4)поставить в отве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43040" y="3867120"/>
            <a:ext cx="3419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запятую под запя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195880" y="400680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в данных дроб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79280" y="2160720"/>
            <a:ext cx="5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-360720" y="-360"/>
            <a:ext cx="101458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рабатываем правил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654120" y="2249280"/>
            <a:ext cx="78055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3576600" y="3060720"/>
            <a:ext cx="163544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iles.school-collection.edu.ru/dlrstore/c796f805-4892-444b-bf3b-bd5a6dfbc3b6/%5BM56_5-06%5D_%5BQS_06-03%5D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71040" y="123840"/>
            <a:ext cx="78058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писи сложения и вычитания десятичных дроб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71040" y="1491840"/>
            <a:ext cx="78058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files.school-collection.edu.ru/dlrstore/f4b6b948-860d-4759-acba-6912e8452681/%5BM56_5-06%5D_%5BMP+MA_03%5D.sw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gradFill rotWithShape="0">
            <a:gsLst>
              <a:gs pos="0">
                <a:srgbClr val="fffda3"/>
              </a:gs>
              <a:gs pos="50000">
                <a:srgbClr val="ffffff"/>
              </a:gs>
              <a:gs pos="100000">
                <a:srgbClr val="fffda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ыполнить сложение десятичных дробей:</a:t>
            </a:r>
            <a:r>
              <a:rPr b="0" lang="ru-RU" sz="4000" spc="-1" strike="noStrike">
                <a:solidFill>
                  <a:srgbClr val="5c852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2529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590920" y="3048120"/>
                <a:ext cx="2832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,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590920" y="3048120"/>
                <a:ext cx="2832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,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,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5410080" y="3048120"/>
                <a:ext cx="544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5302080" y="3048120"/>
                <a:ext cx="7621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3048120"/>
                <a:ext cx="2886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,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,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562720" y="3124080"/>
                <a:ext cx="490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2666880" y="3048120"/>
                <a:ext cx="2832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562720" y="3048120"/>
                <a:ext cx="380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2666880" y="3048120"/>
                <a:ext cx="2778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,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486400" y="3048120"/>
                <a:ext cx="5446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2666880" y="2971800"/>
                <a:ext cx="2887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0,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40400" y="2971800"/>
                <a:ext cx="3808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2" name="">
            <a:hlinkClick r:id="rId1" action="ppaction://hlinksldjump"/>
          </p:cNvPr>
          <p:cNvSpPr/>
          <p:nvPr/>
        </p:nvSpPr>
        <p:spPr>
          <a:xfrm>
            <a:off x="7467480" y="64008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b0bdb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fill="hold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dur="indefinite" fill="hold">
                      <p:stCondLst>
                        <p:cond delay="indefinite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gradFill rotWithShape="0">
            <a:gsLst>
              <a:gs pos="0">
                <a:srgbClr val="fffda3"/>
              </a:gs>
              <a:gs pos="50000">
                <a:srgbClr val="ffffff"/>
              </a:gs>
              <a:gs pos="100000">
                <a:srgbClr val="fffda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ыполнить вычитание десятичных дробей:</a:t>
            </a:r>
            <a:r>
              <a:rPr b="0" lang="ru-RU" sz="4000" spc="-1" strike="noStrike">
                <a:solidFill>
                  <a:srgbClr val="5c852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2529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319480" y="2438280"/>
                <a:ext cx="223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395440" y="2514600"/>
                <a:ext cx="223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4457880" y="2438280"/>
                <a:ext cx="1035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4610160" y="2514600"/>
                <a:ext cx="10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389320" y="2590920"/>
                <a:ext cx="2287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4605480" y="2514600"/>
                <a:ext cx="981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319480" y="2438280"/>
                <a:ext cx="2395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768920" y="2438280"/>
                <a:ext cx="871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395440" y="2514600"/>
                <a:ext cx="2397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0,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4795920" y="2438280"/>
                <a:ext cx="1035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2286000" y="2438280"/>
                <a:ext cx="2560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,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4876920" y="2362320"/>
                <a:ext cx="1252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7" name="">
            <a:hlinkClick r:id="rId1" action="ppaction://hlinksldjump"/>
          </p:cNvPr>
          <p:cNvSpPr/>
          <p:nvPr/>
        </p:nvSpPr>
        <p:spPr>
          <a:xfrm>
            <a:off x="7467480" y="64008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b0bdb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fill="hold">
          <p:childTnLst>
            <p:seq>
              <p:cTn id="300" dur="indefinite" nodeType="mainSeq">
                <p:childTnLst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84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2104d0"/>
              </a:buClr>
              <a:buFont typeface="Georgia"/>
              <a:buChar char="•"/>
              <a:tabLst>
                <a:tab algn="l" pos="324000"/>
                <a:tab algn="l" pos="42876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104d0"/>
                </a:solidFill>
                <a:latin typeface="Georgia"/>
              </a:rPr>
              <a:t>Поставьте в нужном месте запяты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2627280" y="836640"/>
            <a:ext cx="64087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5c8526"/>
                </a:solidFill>
                <a:latin typeface="Georgia"/>
              </a:rPr>
              <a:t>Устный  сче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92360" y="2781360"/>
            <a:ext cx="216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80800"/>
                </a:solidFill>
                <a:latin typeface="Times New Roman"/>
              </a:rPr>
              <a:t>32+18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35280" y="270828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92360" y="378936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80800"/>
                </a:solidFill>
                <a:latin typeface="Times New Roman"/>
              </a:rPr>
              <a:t>3+108=4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59280" y="4149720"/>
            <a:ext cx="2421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80800"/>
                </a:solidFill>
                <a:latin typeface="Times New Roman"/>
              </a:rPr>
              <a:t>736-336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932360" y="3068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80800"/>
                </a:solidFill>
                <a:latin typeface="Times New Roman"/>
              </a:rPr>
              <a:t>57-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4869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80800"/>
                </a:solidFill>
                <a:latin typeface="Times New Roman"/>
              </a:rPr>
              <a:t>42+17=2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376360" cy="14857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4859280" y="5300640"/>
            <a:ext cx="2421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80800"/>
                </a:solidFill>
                <a:latin typeface="Times New Roman"/>
              </a:rPr>
              <a:t>63-27=6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419640" y="378936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627280" y="270828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378936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780000" y="486900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08000" y="486900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48360" y="306864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00720" y="3068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940360" y="4076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003640" y="4076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32720" y="530064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24360" y="5300640"/>
            <a:ext cx="2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0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 fill="hold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 fill="hold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fill="hold">
                      <p:stCondLst>
                        <p:cond delay="indefinite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dur="indefinite" fill="hold">
                      <p:stCondLst>
                        <p:cond delay="indefinite"/>
                      </p:stCondLst>
                      <p:childTnLst>
                        <p:par>
                          <p:cTn id="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dur="indefinite" fill="hold">
                      <p:stCondLst>
                        <p:cond delay="indefinite"/>
                      </p:stCondLst>
                      <p:childTnLst>
                        <p:par>
                          <p:cTn id="5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71400" y="231480"/>
            <a:ext cx="78091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ная пау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650880" y="1573200"/>
            <a:ext cx="2408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75 — 2,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060720" y="1573200"/>
            <a:ext cx="34192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,75 — 2,70 =0,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1600" y="2879640"/>
            <a:ext cx="24080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,7 — 2,7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2879640"/>
            <a:ext cx="39592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(2,75 — 2,70) = - 0,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dur="indefinite" fill="hold">
                      <p:stCondLst>
                        <p:cond delay="indefinite"/>
                      </p:stCondLst>
                      <p:childTnLst>
                        <p:par>
                          <p:cTn id="6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 fill="hold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 fill="hold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20360" y="225000"/>
            <a:ext cx="78058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71040" y="1447920"/>
            <a:ext cx="780588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-3610080" y="3316320"/>
            <a:ext cx="1637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iles.school-collection.edu.ru/dlrstore/46ee9577-ed4c-47dc-872a-04e6e0721f11/%5BM56_5-06%5D_%5BQS_10-01%5D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671400" y="71280"/>
            <a:ext cx="780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c8526"/>
                </a:solidFill>
                <a:latin typeface="Georgia"/>
                <a:ea typeface="Lucida Sans Unicode"/>
              </a:rPr>
              <a:t>Домашнее 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93920" cy="15145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6877080" y="19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671400" y="210960"/>
            <a:ext cx="7802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. 4.3, прави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№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747 - 7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dur="indefinite" fill="hold">
                      <p:stCondLst>
                        <p:cond delay="0"/>
                      </p:stCondLst>
                      <p:childTnLst>
                        <p:par>
                          <p:cTn id="6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 fill="hold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6480000" y="3213000"/>
            <a:ext cx="2519640" cy="36450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71400" y="210600"/>
            <a:ext cx="780264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Рефлексия — способ смотреть на себя со стороны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7802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знакомился с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ыло непросто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добился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еня получилось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ось бы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запомнилось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попробую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35164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Еще природа не проснулась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Но сквозь редеющего с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Весну услышала 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И ей невольно улыбнулас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                                     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В.Тютче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293920" cy="15145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3419640" y="69228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539640" y="1260360"/>
            <a:ext cx="468000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71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Урок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интерес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ку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безразл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71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Я на уро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абот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дых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1960" indent="-3128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могал други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668480" y="1906200"/>
            <a:ext cx="38070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8592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71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Итог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Lucida Sans Unicod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понял мате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узнал больше, чем зн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1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107000"/>
              <a:buFont typeface="Times New Roman"/>
              <a:buChar char="•"/>
              <a:tabLst>
                <a:tab algn="l" pos="385920"/>
                <a:tab algn="l" pos="490680"/>
                <a:tab algn="l" pos="939960"/>
                <a:tab algn="l" pos="1389240"/>
                <a:tab algn="l" pos="1838160"/>
                <a:tab algn="l" pos="2287440"/>
                <a:tab algn="l" pos="2736720"/>
                <a:tab algn="l" pos="3186000"/>
                <a:tab algn="l" pos="3635280"/>
                <a:tab algn="l" pos="4084560"/>
                <a:tab algn="l" pos="4533840"/>
                <a:tab algn="l" pos="4983120"/>
                <a:tab algn="l" pos="5432400"/>
                <a:tab algn="l" pos="5881680"/>
                <a:tab algn="l" pos="6330960"/>
                <a:tab algn="l" pos="6780240"/>
                <a:tab algn="l" pos="7229520"/>
                <a:tab algn="l" pos="7678800"/>
                <a:tab algn="l" pos="8128080"/>
                <a:tab algn="l" pos="8577360"/>
                <a:tab algn="l" pos="9026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не поня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2519280" y="1979640"/>
            <a:ext cx="1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10080" y="16844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619280" y="1684440"/>
            <a:ext cx="2889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20360" y="1260000"/>
            <a:ext cx="7808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179280" y="2502000"/>
            <a:ext cx="8675640" cy="43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dur="indefinite" fill="hold">
                      <p:stCondLst>
                        <p:cond delay="indefinite"/>
                      </p:stCondLst>
                      <p:childTnLst>
                        <p:par>
                          <p:cTn id="6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 fill="hold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3" dur="2000" fill="hold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8091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imes New Roman"/>
              </a:rPr>
              <a:t>М. Башма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4671720" y="1906200"/>
            <a:ext cx="3809880" cy="431964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31640" y="696960"/>
            <a:ext cx="4104000" cy="67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5800" indent="-311040">
              <a:lnSpc>
                <a:spcPct val="100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1580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905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лавная сила математики состоит в том, что вместе с решением одной конкретной задачи она создает общие приемы и способы, применимые во многих ситуациях, которые даже не всегда можно предвиде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4500720" y="1800360"/>
            <a:ext cx="414000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 fill="hold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6696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Укажите лишне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47800" y="2781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Апрел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024000" y="278136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декабр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69760" y="278136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мар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301160" y="2781360"/>
            <a:ext cx="136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Georgia"/>
              </a:rPr>
              <a:t>м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708280"/>
            <a:ext cx="871380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692360" y="2852640"/>
            <a:ext cx="532908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есн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33" name=""/>
          <p:cNvSpPr/>
          <p:nvPr/>
        </p:nvSpPr>
        <p:spPr>
          <a:xfrm>
            <a:off x="611280" y="4869000"/>
            <a:ext cx="102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2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40000" y="4869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73,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588000" y="4869000"/>
            <a:ext cx="21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604,5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56000" y="4869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118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0920" y="4797360"/>
            <a:ext cx="871380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есятичные 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9144000" y="112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rcRect l="0" t="0" r="0" b="3475"/>
          <a:stretch/>
        </p:blipFill>
        <p:spPr>
          <a:xfrm>
            <a:off x="6599160" y="0"/>
            <a:ext cx="25448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0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 fill="hold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 fill="hold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 fill="hold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 fill="hold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1400" y="475920"/>
            <a:ext cx="78091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imes New Roman"/>
              </a:rPr>
              <a:t>Работа с интерактивным учебником ма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179280" y="2063520"/>
            <a:ext cx="864072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1760" y="2160720"/>
            <a:ext cx="86868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atematika-na.ru/5class/mat_5_25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рафический диктант.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Если верно, то      __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если не верно, то   </a:t>
            </a:r>
            <a:r>
              <a:rPr b="1" lang="ru-RU" sz="3900" spc="-1" strike="noStrike">
                <a:solidFill>
                  <a:srgbClr val="330066"/>
                </a:solidFill>
                <a:latin typeface="DejaVu Sans"/>
                <a:ea typeface="DejaVu Sans"/>
              </a:rPr>
              <a:t>ᴧ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" y="1719360"/>
            <a:ext cx="3106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98a8a"/>
                </a:solidFill>
                <a:latin typeface="Times New Roman"/>
                <a:ea typeface="Lucida Sans Unicode"/>
              </a:rPr>
              <a:t>Верно ли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39640" y="2349360"/>
            <a:ext cx="331164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5 &gt; 9,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17 &lt; 0,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37 &gt; 4,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5,7 &lt; 55,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Arial"/>
              <a:buAutoNum type="arabicPeriod"/>
              <a:tabLst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5 &gt; 0,72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284720" y="2349360"/>
            <a:ext cx="331164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0,908 &lt; 0,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7,643 = 7,64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0,0025 &gt; 0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8,034 &lt; 9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0,037 &lt; 0,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26920" y="5661000"/>
            <a:ext cx="41767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_ _^^^_ _^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5292720" y="5589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994320" y="2761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1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20720" y="1224000"/>
            <a:ext cx="78026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ожение и вычитание десятичных дробе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0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71040" y="157320"/>
            <a:ext cx="78058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c8526"/>
                </a:solidFill>
                <a:latin typeface="Times New Roman"/>
              </a:rPr>
              <a:t>Выполнить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654120" y="2671560"/>
            <a:ext cx="780552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21,0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41320" y="1619280"/>
            <a:ext cx="7439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1)15,6 + 5,444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0720" y="4140360"/>
            <a:ext cx="7439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2)2,003 -1,5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20720" y="5400720"/>
            <a:ext cx="7439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0,50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71040" y="210600"/>
            <a:ext cx="780588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полнить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71040" y="1951200"/>
            <a:ext cx="79693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2,3 +0,4261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80920" y="2917800"/>
            <a:ext cx="74390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2,3000+0,4261=2,726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41320" y="3959280"/>
            <a:ext cx="7439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2)13,6 — 2,81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5040360"/>
            <a:ext cx="74390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8080"/>
                </a:solidFill>
                <a:latin typeface="Times New Roman"/>
                <a:ea typeface="Lucida Sans Unicode"/>
              </a:rPr>
              <a:t>13,60 — 2,81=10,7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00:40:44Z</dcterms:created>
  <dc:creator>Школа</dc:creator>
  <dc:description/>
  <dc:language>en-US</dc:language>
  <cp:lastModifiedBy>Каратанова</cp:lastModifiedBy>
  <dcterms:modified xsi:type="dcterms:W3CDTF">2008-07-03T08:08:50Z</dcterms:modified>
  <cp:revision>31</cp:revision>
  <dc:subject/>
  <dc:title>Десятичные дроби</dc:title>
</cp:coreProperties>
</file>